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E58-4BAB-4413-8CD8-A66BAF17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A4D-D352-4D4B-9C02-916D402F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86B-70D1-4E3D-8084-4C03BE13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9CE-F1E4-4613-BE00-22E9F77E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6CE3-8FF4-45DE-AD60-7440DF2A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1564-5461-4076-955F-C554D089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5694-A5D0-40A1-B064-253A65B9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6CC6-D8EB-42B8-84A6-9CF7D4E5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418E-DE86-4A91-8F08-20B7F530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6FDA-FBB8-4FED-8AB3-030FE4E1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9733-C8A2-4B2C-A77E-06600EE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F0C-53CF-4F4E-A1E0-C5245898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5602-16C5-4213-8DC6-E2042EC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1D31-61B6-463A-AF92-3DE0F15B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ACF9-D50B-45FF-939B-8B5E5DA0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2C3F-2559-4D09-BDF5-C144E2ED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55D2-5B8F-4CE9-BE51-0DCE82D4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FF9-3B88-48FB-978E-FE443877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4EC-BECD-4BE0-9FB5-4ACF539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80D-F218-4D9B-8C8C-7B134D91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07E-59D0-4A50-BA15-E8A05D27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C16-32AC-481C-81F2-13EF49FC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425-368E-4908-B185-EC1A904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3E2-1BD8-47AE-A11A-5D522A3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DD3E-5FA6-4474-9612-48085D6660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E03D-776C-48D6-985A-FC1E094D4C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uesday, January 15th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Friday on 6.3 and 6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00200" y="2438280"/>
            <a:ext cx="5791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HS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ddddd"/>
                </a:solidFill>
                <a:latin typeface="Arial"/>
              </a:rPr>
              <a:t>Lesson 6.4</a:t>
            </a:r>
            <a:br>
              <a:rPr sz="8500"/>
            </a:br>
            <a:r>
              <a:rPr b="0" lang="en-US" sz="8500" spc="-1" strike="noStrike">
                <a:solidFill>
                  <a:srgbClr val="dddddd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t products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way in which vectors are multiplied togeth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The dot product of v = &lt;a, b&gt; and w = &lt;c, d&gt; is equal to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• w = ac + b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e that the answer to a dot product is a number, not a v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If v = &lt;2, -3&gt; and w = &lt;-8, 1&gt; then find the following: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•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 •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v • 3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(v • 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v • w)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19160" y="1820880"/>
            <a:ext cx="233640" cy="108000"/>
          </a:xfrm>
          <a:custGeom>
            <a:avLst/>
            <a:gdLst/>
            <a:ahLst/>
            <a:rect l="l" t="t" r="r" b="b"/>
            <a:pathLst>
              <a:path w="646" h="299">
                <a:moveTo>
                  <a:pt x="5407" y="5085"/>
                </a:moveTo>
                <a:cubicBezTo>
                  <a:pt x="5536" y="5085"/>
                  <a:pt x="5657" y="5080"/>
                  <a:pt x="5779" y="5060"/>
                </a:cubicBezTo>
                <a:cubicBezTo>
                  <a:pt x="5818" y="5053"/>
                  <a:pt x="5996" y="5060"/>
                  <a:pt x="5953" y="5060"/>
                </a:cubicBezTo>
                <a:cubicBezTo>
                  <a:pt x="5945" y="5060"/>
                  <a:pt x="5936" y="5060"/>
                  <a:pt x="5928" y="5060"/>
                </a:cubicBezTo>
              </a:path>
              <a:path w="646" h="299">
                <a:moveTo>
                  <a:pt x="5333" y="5333"/>
                </a:moveTo>
                <a:cubicBezTo>
                  <a:pt x="5371" y="5362"/>
                  <a:pt x="5384" y="5358"/>
                  <a:pt x="5432" y="5358"/>
                </a:cubicBezTo>
                <a:cubicBezTo>
                  <a:pt x="5543" y="5358"/>
                  <a:pt x="5952" y="5369"/>
                  <a:pt x="5928" y="53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1652760"/>
            <a:ext cx="955800" cy="411120"/>
          </a:xfrm>
          <a:custGeom>
            <a:avLst/>
            <a:gdLst/>
            <a:ahLst/>
            <a:rect l="l" t="t" r="r" b="b"/>
            <a:pathLst>
              <a:path w="2655" h="1142">
                <a:moveTo>
                  <a:pt x="6821" y="4911"/>
                </a:moveTo>
                <a:cubicBezTo>
                  <a:pt x="6821" y="4855"/>
                  <a:pt x="6841" y="4878"/>
                  <a:pt x="6846" y="4837"/>
                </a:cubicBezTo>
                <a:cubicBezTo>
                  <a:pt x="6849" y="4816"/>
                  <a:pt x="6880" y="4785"/>
                  <a:pt x="6896" y="4762"/>
                </a:cubicBezTo>
                <a:cubicBezTo>
                  <a:pt x="6919" y="4729"/>
                  <a:pt x="6967" y="4731"/>
                  <a:pt x="6995" y="4713"/>
                </a:cubicBezTo>
                <a:cubicBezTo>
                  <a:pt x="7035" y="4687"/>
                  <a:pt x="7045" y="4688"/>
                  <a:pt x="7094" y="4688"/>
                </a:cubicBezTo>
                <a:cubicBezTo>
                  <a:pt x="7135" y="4688"/>
                  <a:pt x="7173" y="4693"/>
                  <a:pt x="7193" y="4738"/>
                </a:cubicBezTo>
                <a:cubicBezTo>
                  <a:pt x="7203" y="4761"/>
                  <a:pt x="7216" y="4814"/>
                  <a:pt x="7218" y="4837"/>
                </a:cubicBezTo>
                <a:cubicBezTo>
                  <a:pt x="7223" y="4905"/>
                  <a:pt x="7197" y="4923"/>
                  <a:pt x="7193" y="4986"/>
                </a:cubicBezTo>
                <a:cubicBezTo>
                  <a:pt x="7190" y="5031"/>
                  <a:pt x="7166" y="5125"/>
                  <a:pt x="7144" y="5159"/>
                </a:cubicBezTo>
                <a:cubicBezTo>
                  <a:pt x="7100" y="5227"/>
                  <a:pt x="7051" y="5279"/>
                  <a:pt x="7020" y="5358"/>
                </a:cubicBezTo>
                <a:cubicBezTo>
                  <a:pt x="6980" y="5459"/>
                  <a:pt x="6906" y="5517"/>
                  <a:pt x="6846" y="5606"/>
                </a:cubicBezTo>
                <a:cubicBezTo>
                  <a:pt x="6811" y="5657"/>
                  <a:pt x="6816" y="5684"/>
                  <a:pt x="6772" y="5730"/>
                </a:cubicBezTo>
                <a:cubicBezTo>
                  <a:pt x="6781" y="5701"/>
                  <a:pt x="6805" y="5685"/>
                  <a:pt x="6846" y="5680"/>
                </a:cubicBezTo>
                <a:cubicBezTo>
                  <a:pt x="6909" y="5673"/>
                  <a:pt x="6970" y="5696"/>
                  <a:pt x="7020" y="5705"/>
                </a:cubicBezTo>
                <a:cubicBezTo>
                  <a:pt x="7082" y="5717"/>
                  <a:pt x="7136" y="5713"/>
                  <a:pt x="7169" y="5730"/>
                </a:cubicBezTo>
                <a:cubicBezTo>
                  <a:pt x="7192" y="5742"/>
                  <a:pt x="7205" y="5697"/>
                  <a:pt x="7218" y="5680"/>
                </a:cubicBezTo>
              </a:path>
              <a:path w="2655" h="1142">
                <a:moveTo>
                  <a:pt x="7640" y="5110"/>
                </a:moveTo>
                <a:cubicBezTo>
                  <a:pt x="7610" y="5140"/>
                  <a:pt x="7599" y="5154"/>
                  <a:pt x="7590" y="5184"/>
                </a:cubicBezTo>
                <a:cubicBezTo>
                  <a:pt x="7612" y="5201"/>
                  <a:pt x="7656" y="5228"/>
                  <a:pt x="7689" y="5209"/>
                </a:cubicBezTo>
                <a:cubicBezTo>
                  <a:pt x="7697" y="5201"/>
                  <a:pt x="7706" y="5192"/>
                  <a:pt x="7714" y="5184"/>
                </a:cubicBezTo>
                <a:cubicBezTo>
                  <a:pt x="7698" y="5135"/>
                  <a:pt x="7698" y="5151"/>
                  <a:pt x="7665" y="5159"/>
                </a:cubicBezTo>
                <a:cubicBezTo>
                  <a:pt x="7613" y="5172"/>
                  <a:pt x="7603" y="5184"/>
                  <a:pt x="7665" y="5184"/>
                </a:cubicBezTo>
              </a:path>
              <a:path w="2655" h="1142">
                <a:moveTo>
                  <a:pt x="7987" y="4936"/>
                </a:moveTo>
                <a:cubicBezTo>
                  <a:pt x="8101" y="4936"/>
                  <a:pt x="8203" y="4928"/>
                  <a:pt x="8310" y="4911"/>
                </a:cubicBezTo>
                <a:cubicBezTo>
                  <a:pt x="8341" y="4906"/>
                  <a:pt x="8510" y="4911"/>
                  <a:pt x="8458" y="4911"/>
                </a:cubicBezTo>
              </a:path>
              <a:path w="2655" h="1142">
                <a:moveTo>
                  <a:pt x="8905" y="4663"/>
                </a:moveTo>
                <a:cubicBezTo>
                  <a:pt x="8883" y="4693"/>
                  <a:pt x="8858" y="4724"/>
                  <a:pt x="8855" y="4762"/>
                </a:cubicBezTo>
                <a:cubicBezTo>
                  <a:pt x="8852" y="4808"/>
                  <a:pt x="8809" y="4861"/>
                  <a:pt x="8830" y="4911"/>
                </a:cubicBezTo>
                <a:cubicBezTo>
                  <a:pt x="8846" y="4948"/>
                  <a:pt x="8874" y="4980"/>
                  <a:pt x="8905" y="5011"/>
                </a:cubicBezTo>
                <a:cubicBezTo>
                  <a:pt x="8941" y="5047"/>
                  <a:pt x="8979" y="5035"/>
                  <a:pt x="9029" y="5035"/>
                </a:cubicBezTo>
                <a:cubicBezTo>
                  <a:pt x="9083" y="5035"/>
                  <a:pt x="9112" y="5023"/>
                  <a:pt x="9153" y="4986"/>
                </a:cubicBezTo>
                <a:cubicBezTo>
                  <a:pt x="9185" y="4957"/>
                  <a:pt x="9242" y="4901"/>
                  <a:pt x="9252" y="4862"/>
                </a:cubicBezTo>
                <a:cubicBezTo>
                  <a:pt x="9266" y="4810"/>
                  <a:pt x="9260" y="4726"/>
                  <a:pt x="9227" y="4688"/>
                </a:cubicBezTo>
                <a:cubicBezTo>
                  <a:pt x="9188" y="4643"/>
                  <a:pt x="9147" y="4640"/>
                  <a:pt x="9103" y="4614"/>
                </a:cubicBezTo>
                <a:cubicBezTo>
                  <a:pt x="9050" y="4581"/>
                  <a:pt x="9025" y="4577"/>
                  <a:pt x="8954" y="4614"/>
                </a:cubicBezTo>
                <a:cubicBezTo>
                  <a:pt x="8920" y="4632"/>
                  <a:pt x="8930" y="4658"/>
                  <a:pt x="8930" y="4688"/>
                </a:cubicBezTo>
              </a:path>
              <a:path w="2655" h="1142">
                <a:moveTo>
                  <a:pt x="9029" y="5085"/>
                </a:moveTo>
                <a:cubicBezTo>
                  <a:pt x="8980" y="5134"/>
                  <a:pt x="8946" y="5180"/>
                  <a:pt x="8905" y="5234"/>
                </a:cubicBezTo>
                <a:cubicBezTo>
                  <a:pt x="8864" y="5290"/>
                  <a:pt x="8824" y="5332"/>
                  <a:pt x="8781" y="5383"/>
                </a:cubicBezTo>
                <a:cubicBezTo>
                  <a:pt x="8739" y="5433"/>
                  <a:pt x="8750" y="5486"/>
                  <a:pt x="8756" y="5531"/>
                </a:cubicBezTo>
                <a:cubicBezTo>
                  <a:pt x="8768" y="5620"/>
                  <a:pt x="8781" y="5605"/>
                  <a:pt x="8855" y="5631"/>
                </a:cubicBezTo>
                <a:cubicBezTo>
                  <a:pt x="8932" y="5657"/>
                  <a:pt x="8996" y="5655"/>
                  <a:pt x="9079" y="5655"/>
                </a:cubicBezTo>
                <a:cubicBezTo>
                  <a:pt x="9153" y="5655"/>
                  <a:pt x="9265" y="5654"/>
                  <a:pt x="9327" y="5606"/>
                </a:cubicBezTo>
                <a:cubicBezTo>
                  <a:pt x="9375" y="5568"/>
                  <a:pt x="9416" y="5509"/>
                  <a:pt x="9426" y="5457"/>
                </a:cubicBezTo>
                <a:cubicBezTo>
                  <a:pt x="9434" y="5415"/>
                  <a:pt x="9399" y="5320"/>
                  <a:pt x="9376" y="5283"/>
                </a:cubicBezTo>
                <a:cubicBezTo>
                  <a:pt x="9348" y="5239"/>
                  <a:pt x="9316" y="5197"/>
                  <a:pt x="9277" y="5159"/>
                </a:cubicBezTo>
                <a:cubicBezTo>
                  <a:pt x="9246" y="5129"/>
                  <a:pt x="9181" y="5030"/>
                  <a:pt x="9128" y="5060"/>
                </a:cubicBezTo>
                <a:cubicBezTo>
                  <a:pt x="9128" y="5068"/>
                  <a:pt x="9128" y="5077"/>
                  <a:pt x="9128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71920" y="1751040"/>
            <a:ext cx="233280" cy="23184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10220" y="4887"/>
                </a:moveTo>
                <a:cubicBezTo>
                  <a:pt x="10220" y="4820"/>
                  <a:pt x="10220" y="4925"/>
                  <a:pt x="10220" y="4936"/>
                </a:cubicBezTo>
                <a:cubicBezTo>
                  <a:pt x="10220" y="5135"/>
                  <a:pt x="10220" y="5681"/>
                  <a:pt x="10220" y="5482"/>
                </a:cubicBezTo>
                <a:cubicBezTo>
                  <a:pt x="10220" y="5474"/>
                  <a:pt x="10220" y="5465"/>
                  <a:pt x="10220" y="5457"/>
                </a:cubicBezTo>
              </a:path>
              <a:path w="646" h="646">
                <a:moveTo>
                  <a:pt x="9922" y="5159"/>
                </a:moveTo>
                <a:cubicBezTo>
                  <a:pt x="9981" y="5159"/>
                  <a:pt x="10017" y="5177"/>
                  <a:pt x="10071" y="5184"/>
                </a:cubicBezTo>
                <a:cubicBezTo>
                  <a:pt x="10198" y="5201"/>
                  <a:pt x="10500" y="5184"/>
                  <a:pt x="10542" y="5184"/>
                </a:cubicBezTo>
                <a:cubicBezTo>
                  <a:pt x="10567" y="5184"/>
                  <a:pt x="10575" y="5184"/>
                  <a:pt x="10567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73680" y="1670040"/>
            <a:ext cx="509400" cy="349200"/>
          </a:xfrm>
          <a:custGeom>
            <a:avLst/>
            <a:gdLst/>
            <a:ahLst/>
            <a:rect l="l" t="t" r="r" b="b"/>
            <a:pathLst>
              <a:path w="1415" h="969">
                <a:moveTo>
                  <a:pt x="11038" y="4936"/>
                </a:moveTo>
                <a:cubicBezTo>
                  <a:pt x="11090" y="4956"/>
                  <a:pt x="11157" y="4976"/>
                  <a:pt x="11212" y="4986"/>
                </a:cubicBezTo>
                <a:cubicBezTo>
                  <a:pt x="11283" y="4999"/>
                  <a:pt x="11341" y="4994"/>
                  <a:pt x="11410" y="5011"/>
                </a:cubicBezTo>
                <a:cubicBezTo>
                  <a:pt x="11450" y="5021"/>
                  <a:pt x="11451" y="5013"/>
                  <a:pt x="11460" y="4986"/>
                </a:cubicBezTo>
              </a:path>
              <a:path w="1415" h="969">
                <a:moveTo>
                  <a:pt x="11683" y="4713"/>
                </a:moveTo>
                <a:cubicBezTo>
                  <a:pt x="11730" y="4686"/>
                  <a:pt x="11786" y="4647"/>
                  <a:pt x="11832" y="4638"/>
                </a:cubicBezTo>
                <a:cubicBezTo>
                  <a:pt x="11874" y="4629"/>
                  <a:pt x="11968" y="4665"/>
                  <a:pt x="12005" y="4688"/>
                </a:cubicBezTo>
                <a:cubicBezTo>
                  <a:pt x="12043" y="4712"/>
                  <a:pt x="12078" y="4767"/>
                  <a:pt x="12055" y="4812"/>
                </a:cubicBezTo>
                <a:cubicBezTo>
                  <a:pt x="12028" y="4865"/>
                  <a:pt x="11981" y="4906"/>
                  <a:pt x="11931" y="4936"/>
                </a:cubicBezTo>
                <a:cubicBezTo>
                  <a:pt x="11864" y="4976"/>
                  <a:pt x="11810" y="5036"/>
                  <a:pt x="11733" y="5060"/>
                </a:cubicBezTo>
                <a:cubicBezTo>
                  <a:pt x="11693" y="5072"/>
                  <a:pt x="11669" y="5076"/>
                  <a:pt x="11658" y="5110"/>
                </a:cubicBezTo>
                <a:cubicBezTo>
                  <a:pt x="11698" y="5080"/>
                  <a:pt x="11721" y="5105"/>
                  <a:pt x="11757" y="5085"/>
                </a:cubicBezTo>
                <a:cubicBezTo>
                  <a:pt x="11781" y="5071"/>
                  <a:pt x="11822" y="5040"/>
                  <a:pt x="11857" y="5060"/>
                </a:cubicBezTo>
                <a:cubicBezTo>
                  <a:pt x="11897" y="5083"/>
                  <a:pt x="11908" y="5095"/>
                  <a:pt x="11931" y="5135"/>
                </a:cubicBezTo>
                <a:cubicBezTo>
                  <a:pt x="11964" y="5191"/>
                  <a:pt x="12003" y="5246"/>
                  <a:pt x="12005" y="5308"/>
                </a:cubicBezTo>
                <a:cubicBezTo>
                  <a:pt x="12008" y="5400"/>
                  <a:pt x="12027" y="5523"/>
                  <a:pt x="11931" y="5581"/>
                </a:cubicBezTo>
                <a:cubicBezTo>
                  <a:pt x="11883" y="5610"/>
                  <a:pt x="11813" y="5606"/>
                  <a:pt x="11757" y="5606"/>
                </a:cubicBezTo>
                <a:cubicBezTo>
                  <a:pt x="11718" y="5606"/>
                  <a:pt x="11630" y="5625"/>
                  <a:pt x="11609" y="5581"/>
                </a:cubicBezTo>
                <a:cubicBezTo>
                  <a:pt x="11601" y="5564"/>
                  <a:pt x="11643" y="5527"/>
                  <a:pt x="11658" y="5507"/>
                </a:cubicBezTo>
              </a:path>
              <a:path w="1415" h="969">
                <a:moveTo>
                  <a:pt x="12452" y="5135"/>
                </a:moveTo>
                <a:cubicBezTo>
                  <a:pt x="12406" y="5146"/>
                  <a:pt x="12389" y="5163"/>
                  <a:pt x="12378" y="5209"/>
                </a:cubicBezTo>
                <a:cubicBezTo>
                  <a:pt x="12394" y="5205"/>
                  <a:pt x="12465" y="5165"/>
                  <a:pt x="12427" y="5135"/>
                </a:cubicBezTo>
                <a:cubicBezTo>
                  <a:pt x="12408" y="5120"/>
                  <a:pt x="12340" y="5138"/>
                  <a:pt x="12402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4920" y="1670040"/>
            <a:ext cx="17280" cy="374760"/>
          </a:xfrm>
          <a:custGeom>
            <a:avLst/>
            <a:gdLst/>
            <a:ahLst/>
            <a:rect l="l" t="t" r="r" b="b"/>
            <a:pathLst>
              <a:path w="50" h="1043">
                <a:moveTo>
                  <a:pt x="13122" y="4638"/>
                </a:moveTo>
                <a:cubicBezTo>
                  <a:pt x="13122" y="4688"/>
                  <a:pt x="13102" y="4716"/>
                  <a:pt x="13097" y="4762"/>
                </a:cubicBezTo>
                <a:cubicBezTo>
                  <a:pt x="13086" y="4865"/>
                  <a:pt x="13108" y="4939"/>
                  <a:pt x="13122" y="5035"/>
                </a:cubicBezTo>
                <a:cubicBezTo>
                  <a:pt x="13132" y="5108"/>
                  <a:pt x="13137" y="5189"/>
                  <a:pt x="13146" y="5259"/>
                </a:cubicBezTo>
                <a:cubicBezTo>
                  <a:pt x="13161" y="5375"/>
                  <a:pt x="13159" y="5578"/>
                  <a:pt x="13122" y="5655"/>
                </a:cubicBezTo>
                <a:cubicBezTo>
                  <a:pt x="13103" y="5694"/>
                  <a:pt x="13188" y="5678"/>
                  <a:pt x="13122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2120" y="1670040"/>
            <a:ext cx="1670040" cy="330120"/>
          </a:xfrm>
          <a:custGeom>
            <a:avLst/>
            <a:gdLst/>
            <a:ahLst/>
            <a:rect l="l" t="t" r="r" b="b"/>
            <a:pathLst>
              <a:path w="4639" h="919">
                <a:moveTo>
                  <a:pt x="13618" y="5011"/>
                </a:moveTo>
                <a:cubicBezTo>
                  <a:pt x="13632" y="5050"/>
                  <a:pt x="13667" y="5035"/>
                  <a:pt x="13717" y="5035"/>
                </a:cubicBezTo>
                <a:cubicBezTo>
                  <a:pt x="13795" y="5035"/>
                  <a:pt x="13835" y="5047"/>
                  <a:pt x="13915" y="5060"/>
                </a:cubicBezTo>
                <a:cubicBezTo>
                  <a:pt x="13930" y="5063"/>
                  <a:pt x="14054" y="5060"/>
                  <a:pt x="13990" y="5060"/>
                </a:cubicBezTo>
                <a:cubicBezTo>
                  <a:pt x="13965" y="5060"/>
                  <a:pt x="13957" y="5060"/>
                  <a:pt x="13940" y="5060"/>
                </a:cubicBezTo>
              </a:path>
              <a:path w="4639" h="919">
                <a:moveTo>
                  <a:pt x="13643" y="5283"/>
                </a:moveTo>
                <a:cubicBezTo>
                  <a:pt x="13742" y="5283"/>
                  <a:pt x="13823" y="5285"/>
                  <a:pt x="13915" y="5308"/>
                </a:cubicBezTo>
                <a:cubicBezTo>
                  <a:pt x="13963" y="5320"/>
                  <a:pt x="13966" y="5308"/>
                  <a:pt x="14015" y="5308"/>
                </a:cubicBezTo>
                <a:cubicBezTo>
                  <a:pt x="14023" y="5308"/>
                  <a:pt x="14031" y="5308"/>
                  <a:pt x="14039" y="5308"/>
                </a:cubicBezTo>
              </a:path>
              <a:path w="4639" h="919">
                <a:moveTo>
                  <a:pt x="14362" y="4986"/>
                </a:moveTo>
                <a:cubicBezTo>
                  <a:pt x="14474" y="4986"/>
                  <a:pt x="14588" y="4994"/>
                  <a:pt x="14684" y="4961"/>
                </a:cubicBezTo>
                <a:cubicBezTo>
                  <a:pt x="14692" y="4961"/>
                  <a:pt x="14701" y="4961"/>
                  <a:pt x="14709" y="4961"/>
                </a:cubicBezTo>
              </a:path>
              <a:path w="4639" h="919">
                <a:moveTo>
                  <a:pt x="14982" y="4663"/>
                </a:moveTo>
                <a:cubicBezTo>
                  <a:pt x="14982" y="4761"/>
                  <a:pt x="14969" y="4845"/>
                  <a:pt x="14957" y="4936"/>
                </a:cubicBezTo>
                <a:cubicBezTo>
                  <a:pt x="14946" y="5017"/>
                  <a:pt x="14942" y="5107"/>
                  <a:pt x="14932" y="5184"/>
                </a:cubicBezTo>
                <a:cubicBezTo>
                  <a:pt x="14919" y="5288"/>
                  <a:pt x="14938" y="5383"/>
                  <a:pt x="14957" y="5482"/>
                </a:cubicBezTo>
                <a:cubicBezTo>
                  <a:pt x="14966" y="5531"/>
                  <a:pt x="14957" y="5539"/>
                  <a:pt x="14957" y="5482"/>
                </a:cubicBezTo>
              </a:path>
              <a:path w="4639" h="919">
                <a:moveTo>
                  <a:pt x="15379" y="4713"/>
                </a:moveTo>
                <a:cubicBezTo>
                  <a:pt x="15379" y="4760"/>
                  <a:pt x="15362" y="4776"/>
                  <a:pt x="15354" y="4812"/>
                </a:cubicBezTo>
                <a:cubicBezTo>
                  <a:pt x="15340" y="4877"/>
                  <a:pt x="15315" y="4946"/>
                  <a:pt x="15304" y="5011"/>
                </a:cubicBezTo>
                <a:cubicBezTo>
                  <a:pt x="15293" y="5078"/>
                  <a:pt x="15266" y="5143"/>
                  <a:pt x="15255" y="5209"/>
                </a:cubicBezTo>
                <a:cubicBezTo>
                  <a:pt x="15244" y="5275"/>
                  <a:pt x="15249" y="5361"/>
                  <a:pt x="15255" y="5407"/>
                </a:cubicBezTo>
                <a:cubicBezTo>
                  <a:pt x="15262" y="5462"/>
                  <a:pt x="15238" y="5526"/>
                  <a:pt x="15304" y="5556"/>
                </a:cubicBezTo>
                <a:cubicBezTo>
                  <a:pt x="15341" y="5573"/>
                  <a:pt x="15430" y="5564"/>
                  <a:pt x="15453" y="5531"/>
                </a:cubicBezTo>
                <a:cubicBezTo>
                  <a:pt x="15500" y="5463"/>
                  <a:pt x="15528" y="5456"/>
                  <a:pt x="15553" y="5383"/>
                </a:cubicBezTo>
                <a:cubicBezTo>
                  <a:pt x="15577" y="5314"/>
                  <a:pt x="15589" y="5292"/>
                  <a:pt x="15577" y="5234"/>
                </a:cubicBezTo>
                <a:cubicBezTo>
                  <a:pt x="15570" y="5200"/>
                  <a:pt x="15560" y="5169"/>
                  <a:pt x="15553" y="5135"/>
                </a:cubicBezTo>
                <a:cubicBezTo>
                  <a:pt x="15518" y="5135"/>
                  <a:pt x="15479" y="5141"/>
                  <a:pt x="15453" y="5159"/>
                </a:cubicBezTo>
                <a:cubicBezTo>
                  <a:pt x="15422" y="5180"/>
                  <a:pt x="15417" y="5229"/>
                  <a:pt x="15404" y="5259"/>
                </a:cubicBezTo>
                <a:cubicBezTo>
                  <a:pt x="15371" y="5334"/>
                  <a:pt x="15384" y="5360"/>
                  <a:pt x="15404" y="5432"/>
                </a:cubicBezTo>
                <a:cubicBezTo>
                  <a:pt x="15416" y="5475"/>
                  <a:pt x="15392" y="5500"/>
                  <a:pt x="15453" y="5507"/>
                </a:cubicBezTo>
                <a:cubicBezTo>
                  <a:pt x="15461" y="5507"/>
                  <a:pt x="15470" y="5507"/>
                  <a:pt x="15478" y="5507"/>
                </a:cubicBezTo>
              </a:path>
              <a:path w="4639" h="919">
                <a:moveTo>
                  <a:pt x="16123" y="4911"/>
                </a:moveTo>
                <a:cubicBezTo>
                  <a:pt x="16123" y="5065"/>
                  <a:pt x="16101" y="5246"/>
                  <a:pt x="16148" y="5383"/>
                </a:cubicBezTo>
                <a:cubicBezTo>
                  <a:pt x="16164" y="5429"/>
                  <a:pt x="16128" y="5370"/>
                  <a:pt x="16123" y="5358"/>
                </a:cubicBezTo>
                <a:cubicBezTo>
                  <a:pt x="16115" y="5341"/>
                  <a:pt x="16106" y="5325"/>
                  <a:pt x="16098" y="5308"/>
                </a:cubicBezTo>
              </a:path>
              <a:path w="4639" h="919">
                <a:moveTo>
                  <a:pt x="15949" y="5159"/>
                </a:moveTo>
                <a:cubicBezTo>
                  <a:pt x="15994" y="5170"/>
                  <a:pt x="16019" y="5184"/>
                  <a:pt x="16073" y="5184"/>
                </a:cubicBezTo>
                <a:cubicBezTo>
                  <a:pt x="16166" y="5184"/>
                  <a:pt x="16226" y="5195"/>
                  <a:pt x="16321" y="5209"/>
                </a:cubicBezTo>
                <a:cubicBezTo>
                  <a:pt x="16332" y="5211"/>
                  <a:pt x="16438" y="5209"/>
                  <a:pt x="16371" y="5209"/>
                </a:cubicBezTo>
              </a:path>
              <a:path w="4639" h="919">
                <a:moveTo>
                  <a:pt x="16718" y="4887"/>
                </a:moveTo>
                <a:cubicBezTo>
                  <a:pt x="16817" y="4887"/>
                  <a:pt x="16917" y="4887"/>
                  <a:pt x="17016" y="4887"/>
                </a:cubicBezTo>
              </a:path>
              <a:path w="4639" h="919">
                <a:moveTo>
                  <a:pt x="17115" y="4738"/>
                </a:moveTo>
                <a:cubicBezTo>
                  <a:pt x="17178" y="4683"/>
                  <a:pt x="17232" y="4652"/>
                  <a:pt x="17314" y="4638"/>
                </a:cubicBezTo>
                <a:cubicBezTo>
                  <a:pt x="17381" y="4627"/>
                  <a:pt x="17434" y="4645"/>
                  <a:pt x="17487" y="4663"/>
                </a:cubicBezTo>
                <a:cubicBezTo>
                  <a:pt x="17527" y="4677"/>
                  <a:pt x="17556" y="4689"/>
                  <a:pt x="17562" y="4738"/>
                </a:cubicBezTo>
                <a:cubicBezTo>
                  <a:pt x="17568" y="4792"/>
                  <a:pt x="17521" y="4828"/>
                  <a:pt x="17487" y="4862"/>
                </a:cubicBezTo>
                <a:cubicBezTo>
                  <a:pt x="17449" y="4900"/>
                  <a:pt x="17402" y="4922"/>
                  <a:pt x="17363" y="4961"/>
                </a:cubicBezTo>
                <a:cubicBezTo>
                  <a:pt x="17325" y="4999"/>
                  <a:pt x="17278" y="5021"/>
                  <a:pt x="17239" y="5060"/>
                </a:cubicBezTo>
                <a:cubicBezTo>
                  <a:pt x="17285" y="5060"/>
                  <a:pt x="17298" y="5040"/>
                  <a:pt x="17338" y="5035"/>
                </a:cubicBezTo>
                <a:cubicBezTo>
                  <a:pt x="17375" y="5031"/>
                  <a:pt x="17415" y="5027"/>
                  <a:pt x="17438" y="5060"/>
                </a:cubicBezTo>
                <a:cubicBezTo>
                  <a:pt x="17467" y="5104"/>
                  <a:pt x="17499" y="5158"/>
                  <a:pt x="17512" y="5209"/>
                </a:cubicBezTo>
                <a:cubicBezTo>
                  <a:pt x="17524" y="5259"/>
                  <a:pt x="17519" y="5322"/>
                  <a:pt x="17487" y="5358"/>
                </a:cubicBezTo>
                <a:cubicBezTo>
                  <a:pt x="17452" y="5397"/>
                  <a:pt x="17415" y="5419"/>
                  <a:pt x="17363" y="5432"/>
                </a:cubicBezTo>
                <a:cubicBezTo>
                  <a:pt x="17332" y="5440"/>
                  <a:pt x="17122" y="5442"/>
                  <a:pt x="17140" y="5407"/>
                </a:cubicBezTo>
                <a:cubicBezTo>
                  <a:pt x="17148" y="5399"/>
                  <a:pt x="17157" y="5391"/>
                  <a:pt x="17165" y="5383"/>
                </a:cubicBezTo>
              </a:path>
              <a:path w="4639" h="919">
                <a:moveTo>
                  <a:pt x="17884" y="5011"/>
                </a:moveTo>
                <a:cubicBezTo>
                  <a:pt x="18016" y="5011"/>
                  <a:pt x="18363" y="5011"/>
                  <a:pt x="18231" y="5011"/>
                </a:cubicBezTo>
              </a:path>
              <a:path w="4639" h="919">
                <a:moveTo>
                  <a:pt x="17859" y="5234"/>
                </a:moveTo>
                <a:cubicBezTo>
                  <a:pt x="17919" y="5234"/>
                  <a:pt x="17960" y="5249"/>
                  <a:pt x="18008" y="5259"/>
                </a:cubicBezTo>
                <a:cubicBezTo>
                  <a:pt x="18052" y="5268"/>
                  <a:pt x="18269" y="5259"/>
                  <a:pt x="18231" y="5259"/>
                </a:cubicBezTo>
                <a:cubicBezTo>
                  <a:pt x="18223" y="5259"/>
                  <a:pt x="18215" y="5259"/>
                  <a:pt x="18207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50000" y="1670040"/>
            <a:ext cx="509760" cy="295200"/>
          </a:xfrm>
          <a:custGeom>
            <a:avLst/>
            <a:gdLst/>
            <a:ahLst/>
            <a:rect l="l" t="t" r="r" b="b"/>
            <a:pathLst>
              <a:path w="1415" h="820">
                <a:moveTo>
                  <a:pt x="18752" y="4862"/>
                </a:moveTo>
                <a:cubicBezTo>
                  <a:pt x="18828" y="4862"/>
                  <a:pt x="19129" y="4896"/>
                  <a:pt x="19149" y="4837"/>
                </a:cubicBezTo>
              </a:path>
              <a:path w="1415" h="820">
                <a:moveTo>
                  <a:pt x="19422" y="4663"/>
                </a:moveTo>
                <a:cubicBezTo>
                  <a:pt x="19411" y="4708"/>
                  <a:pt x="19397" y="4733"/>
                  <a:pt x="19397" y="4787"/>
                </a:cubicBezTo>
                <a:cubicBezTo>
                  <a:pt x="19397" y="5010"/>
                  <a:pt x="19397" y="5234"/>
                  <a:pt x="19397" y="5457"/>
                </a:cubicBezTo>
                <a:cubicBezTo>
                  <a:pt x="19397" y="5404"/>
                  <a:pt x="19409" y="5396"/>
                  <a:pt x="19447" y="5358"/>
                </a:cubicBezTo>
              </a:path>
              <a:path w="1415" h="820">
                <a:moveTo>
                  <a:pt x="20141" y="4812"/>
                </a:moveTo>
                <a:cubicBezTo>
                  <a:pt x="20168" y="4723"/>
                  <a:pt x="20180" y="4713"/>
                  <a:pt x="20117" y="4663"/>
                </a:cubicBezTo>
                <a:cubicBezTo>
                  <a:pt x="20063" y="4620"/>
                  <a:pt x="20009" y="4635"/>
                  <a:pt x="19943" y="4663"/>
                </a:cubicBezTo>
                <a:cubicBezTo>
                  <a:pt x="19829" y="4711"/>
                  <a:pt x="19790" y="4746"/>
                  <a:pt x="19720" y="4837"/>
                </a:cubicBezTo>
                <a:cubicBezTo>
                  <a:pt x="19697" y="4867"/>
                  <a:pt x="19637" y="4940"/>
                  <a:pt x="19670" y="4986"/>
                </a:cubicBezTo>
                <a:cubicBezTo>
                  <a:pt x="19675" y="4993"/>
                  <a:pt x="19737" y="5034"/>
                  <a:pt x="19745" y="5035"/>
                </a:cubicBezTo>
                <a:cubicBezTo>
                  <a:pt x="19800" y="5039"/>
                  <a:pt x="19849" y="5009"/>
                  <a:pt x="19893" y="4986"/>
                </a:cubicBezTo>
                <a:cubicBezTo>
                  <a:pt x="19954" y="4953"/>
                  <a:pt x="19993" y="4911"/>
                  <a:pt x="20042" y="4862"/>
                </a:cubicBezTo>
                <a:cubicBezTo>
                  <a:pt x="20081" y="4823"/>
                  <a:pt x="20092" y="4791"/>
                  <a:pt x="20092" y="4738"/>
                </a:cubicBezTo>
                <a:cubicBezTo>
                  <a:pt x="20092" y="4807"/>
                  <a:pt x="20070" y="4866"/>
                  <a:pt x="20067" y="4936"/>
                </a:cubicBezTo>
                <a:cubicBezTo>
                  <a:pt x="20063" y="5014"/>
                  <a:pt x="20042" y="5076"/>
                  <a:pt x="20042" y="5159"/>
                </a:cubicBezTo>
                <a:cubicBezTo>
                  <a:pt x="20042" y="5226"/>
                  <a:pt x="20027" y="5271"/>
                  <a:pt x="20017" y="5333"/>
                </a:cubicBezTo>
                <a:cubicBezTo>
                  <a:pt x="20010" y="5373"/>
                  <a:pt x="19957" y="5451"/>
                  <a:pt x="19993" y="5432"/>
                </a:cubicBezTo>
                <a:cubicBezTo>
                  <a:pt x="20015" y="5409"/>
                  <a:pt x="20020" y="5401"/>
                  <a:pt x="20042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53240" y="1633680"/>
            <a:ext cx="749520" cy="430200"/>
          </a:xfrm>
          <a:custGeom>
            <a:avLst/>
            <a:gdLst/>
            <a:ahLst/>
            <a:rect l="l" t="t" r="r" b="b"/>
            <a:pathLst>
              <a:path w="2084" h="1192">
                <a:moveTo>
                  <a:pt x="21456" y="4738"/>
                </a:moveTo>
                <a:cubicBezTo>
                  <a:pt x="21423" y="4830"/>
                  <a:pt x="21386" y="4915"/>
                  <a:pt x="21382" y="5011"/>
                </a:cubicBezTo>
                <a:cubicBezTo>
                  <a:pt x="21379" y="5077"/>
                  <a:pt x="21390" y="5269"/>
                  <a:pt x="21382" y="5259"/>
                </a:cubicBezTo>
                <a:cubicBezTo>
                  <a:pt x="21359" y="5236"/>
                  <a:pt x="21351" y="5232"/>
                  <a:pt x="21357" y="5209"/>
                </a:cubicBezTo>
              </a:path>
              <a:path w="2084" h="1192">
                <a:moveTo>
                  <a:pt x="21307" y="4812"/>
                </a:moveTo>
                <a:cubicBezTo>
                  <a:pt x="21283" y="4735"/>
                  <a:pt x="21243" y="4695"/>
                  <a:pt x="21282" y="4638"/>
                </a:cubicBezTo>
                <a:cubicBezTo>
                  <a:pt x="21359" y="4526"/>
                  <a:pt x="21401" y="4539"/>
                  <a:pt x="21530" y="4539"/>
                </a:cubicBezTo>
                <a:cubicBezTo>
                  <a:pt x="21629" y="4539"/>
                  <a:pt x="21736" y="4561"/>
                  <a:pt x="21803" y="4638"/>
                </a:cubicBezTo>
                <a:cubicBezTo>
                  <a:pt x="21821" y="4659"/>
                  <a:pt x="21851" y="4784"/>
                  <a:pt x="21828" y="4812"/>
                </a:cubicBezTo>
                <a:cubicBezTo>
                  <a:pt x="21800" y="4846"/>
                  <a:pt x="21730" y="4924"/>
                  <a:pt x="21679" y="4936"/>
                </a:cubicBezTo>
                <a:cubicBezTo>
                  <a:pt x="21625" y="4949"/>
                  <a:pt x="21602" y="4970"/>
                  <a:pt x="21555" y="4986"/>
                </a:cubicBezTo>
                <a:cubicBezTo>
                  <a:pt x="21547" y="4986"/>
                  <a:pt x="21538" y="4986"/>
                  <a:pt x="21530" y="4986"/>
                </a:cubicBezTo>
                <a:cubicBezTo>
                  <a:pt x="21539" y="5024"/>
                  <a:pt x="21553" y="5055"/>
                  <a:pt x="21580" y="5085"/>
                </a:cubicBezTo>
                <a:cubicBezTo>
                  <a:pt x="21633" y="5145"/>
                  <a:pt x="21692" y="5188"/>
                  <a:pt x="21754" y="5234"/>
                </a:cubicBezTo>
                <a:cubicBezTo>
                  <a:pt x="21779" y="5253"/>
                  <a:pt x="21842" y="5279"/>
                  <a:pt x="21878" y="5259"/>
                </a:cubicBezTo>
                <a:cubicBezTo>
                  <a:pt x="21903" y="5234"/>
                  <a:pt x="21911" y="5226"/>
                  <a:pt x="21927" y="5209"/>
                </a:cubicBezTo>
              </a:path>
              <a:path w="2084" h="1192">
                <a:moveTo>
                  <a:pt x="22051" y="4862"/>
                </a:moveTo>
                <a:cubicBezTo>
                  <a:pt x="22051" y="5024"/>
                  <a:pt x="22028" y="5214"/>
                  <a:pt x="22076" y="5358"/>
                </a:cubicBezTo>
                <a:cubicBezTo>
                  <a:pt x="22092" y="5405"/>
                  <a:pt x="22057" y="5417"/>
                  <a:pt x="22101" y="5358"/>
                </a:cubicBezTo>
              </a:path>
              <a:path w="2084" h="1192">
                <a:moveTo>
                  <a:pt x="22324" y="4862"/>
                </a:moveTo>
                <a:cubicBezTo>
                  <a:pt x="22280" y="4958"/>
                  <a:pt x="22253" y="5068"/>
                  <a:pt x="22200" y="5159"/>
                </a:cubicBezTo>
                <a:cubicBezTo>
                  <a:pt x="22143" y="5258"/>
                  <a:pt x="22113" y="5360"/>
                  <a:pt x="22051" y="5457"/>
                </a:cubicBezTo>
                <a:cubicBezTo>
                  <a:pt x="22007" y="5525"/>
                  <a:pt x="21947" y="5638"/>
                  <a:pt x="21903" y="5705"/>
                </a:cubicBezTo>
                <a:cubicBezTo>
                  <a:pt x="21895" y="5713"/>
                  <a:pt x="21886" y="5722"/>
                  <a:pt x="21878" y="5730"/>
                </a:cubicBezTo>
                <a:cubicBezTo>
                  <a:pt x="21908" y="5720"/>
                  <a:pt x="21920" y="5688"/>
                  <a:pt x="21952" y="5655"/>
                </a:cubicBezTo>
              </a:path>
              <a:path w="2084" h="1192">
                <a:moveTo>
                  <a:pt x="22622" y="4986"/>
                </a:moveTo>
                <a:cubicBezTo>
                  <a:pt x="22659" y="4929"/>
                  <a:pt x="22675" y="4926"/>
                  <a:pt x="22671" y="4887"/>
                </a:cubicBezTo>
                <a:cubicBezTo>
                  <a:pt x="22627" y="4864"/>
                  <a:pt x="22610" y="4888"/>
                  <a:pt x="22572" y="4936"/>
                </a:cubicBezTo>
                <a:cubicBezTo>
                  <a:pt x="22497" y="5031"/>
                  <a:pt x="22492" y="5090"/>
                  <a:pt x="22448" y="5184"/>
                </a:cubicBezTo>
                <a:cubicBezTo>
                  <a:pt x="22433" y="5216"/>
                  <a:pt x="22426" y="5253"/>
                  <a:pt x="22473" y="5259"/>
                </a:cubicBezTo>
                <a:cubicBezTo>
                  <a:pt x="22523" y="5265"/>
                  <a:pt x="22533" y="5215"/>
                  <a:pt x="22547" y="5184"/>
                </a:cubicBezTo>
                <a:cubicBezTo>
                  <a:pt x="22564" y="5144"/>
                  <a:pt x="22578" y="5046"/>
                  <a:pt x="22597" y="5085"/>
                </a:cubicBezTo>
                <a:cubicBezTo>
                  <a:pt x="22609" y="5109"/>
                  <a:pt x="22620" y="5180"/>
                  <a:pt x="22622" y="5184"/>
                </a:cubicBezTo>
                <a:cubicBezTo>
                  <a:pt x="22642" y="5230"/>
                  <a:pt x="22641" y="5234"/>
                  <a:pt x="22696" y="5234"/>
                </a:cubicBezTo>
                <a:cubicBezTo>
                  <a:pt x="22731" y="5234"/>
                  <a:pt x="22808" y="5165"/>
                  <a:pt x="22820" y="5135"/>
                </a:cubicBezTo>
                <a:cubicBezTo>
                  <a:pt x="22820" y="5083"/>
                  <a:pt x="22821" y="5065"/>
                  <a:pt x="22845" y="5035"/>
                </a:cubicBezTo>
              </a:path>
              <a:path w="2084" h="1192">
                <a:moveTo>
                  <a:pt x="22870" y="4911"/>
                </a:moveTo>
                <a:cubicBezTo>
                  <a:pt x="22862" y="4958"/>
                  <a:pt x="22807" y="5134"/>
                  <a:pt x="22820" y="5184"/>
                </a:cubicBezTo>
                <a:cubicBezTo>
                  <a:pt x="22837" y="5246"/>
                  <a:pt x="22857" y="5246"/>
                  <a:pt x="22870" y="5283"/>
                </a:cubicBezTo>
                <a:cubicBezTo>
                  <a:pt x="22881" y="5239"/>
                  <a:pt x="22908" y="5208"/>
                  <a:pt x="22920" y="5159"/>
                </a:cubicBezTo>
                <a:cubicBezTo>
                  <a:pt x="22936" y="5096"/>
                  <a:pt x="22934" y="5069"/>
                  <a:pt x="22969" y="5011"/>
                </a:cubicBezTo>
                <a:cubicBezTo>
                  <a:pt x="23001" y="4958"/>
                  <a:pt x="23054" y="4908"/>
                  <a:pt x="23118" y="4887"/>
                </a:cubicBezTo>
                <a:cubicBezTo>
                  <a:pt x="23162" y="4873"/>
                  <a:pt x="23200" y="4958"/>
                  <a:pt x="23217" y="4986"/>
                </a:cubicBezTo>
                <a:cubicBezTo>
                  <a:pt x="23254" y="5046"/>
                  <a:pt x="23251" y="5141"/>
                  <a:pt x="23267" y="5209"/>
                </a:cubicBezTo>
                <a:cubicBezTo>
                  <a:pt x="23278" y="5255"/>
                  <a:pt x="23262" y="5282"/>
                  <a:pt x="23316" y="5234"/>
                </a:cubicBezTo>
                <a:cubicBezTo>
                  <a:pt x="23324" y="5226"/>
                  <a:pt x="23333" y="5217"/>
                  <a:pt x="23341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562960" y="1517760"/>
            <a:ext cx="19080" cy="411120"/>
          </a:xfrm>
          <a:custGeom>
            <a:avLst/>
            <a:gdLst/>
            <a:ahLst/>
            <a:rect l="l" t="t" r="r" b="b"/>
            <a:pathLst>
              <a:path w="50" h="1142">
                <a:moveTo>
                  <a:pt x="23788" y="4217"/>
                </a:moveTo>
                <a:cubicBezTo>
                  <a:pt x="23834" y="4357"/>
                  <a:pt x="23837" y="4443"/>
                  <a:pt x="23837" y="4589"/>
                </a:cubicBezTo>
                <a:cubicBezTo>
                  <a:pt x="23837" y="4696"/>
                  <a:pt x="23837" y="4804"/>
                  <a:pt x="23837" y="4911"/>
                </a:cubicBezTo>
              </a:path>
              <a:path w="50" h="1142">
                <a:moveTo>
                  <a:pt x="23837" y="5308"/>
                </a:moveTo>
                <a:cubicBezTo>
                  <a:pt x="23837" y="5333"/>
                  <a:pt x="23837" y="5341"/>
                  <a:pt x="23837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55880" y="2419200"/>
            <a:ext cx="125280" cy="7308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5432" y="6722"/>
                </a:moveTo>
                <a:cubicBezTo>
                  <a:pt x="5477" y="6722"/>
                  <a:pt x="5491" y="6744"/>
                  <a:pt x="5531" y="6747"/>
                </a:cubicBezTo>
                <a:cubicBezTo>
                  <a:pt x="5612" y="6753"/>
                  <a:pt x="5697" y="6747"/>
                  <a:pt x="5779" y="6747"/>
                </a:cubicBezTo>
                <a:cubicBezTo>
                  <a:pt x="5755" y="6747"/>
                  <a:pt x="5746" y="6747"/>
                  <a:pt x="5730" y="6747"/>
                </a:cubicBezTo>
              </a:path>
              <a:path w="348" h="200">
                <a:moveTo>
                  <a:pt x="5457" y="6896"/>
                </a:moveTo>
                <a:cubicBezTo>
                  <a:pt x="5521" y="6905"/>
                  <a:pt x="5555" y="6911"/>
                  <a:pt x="5606" y="6921"/>
                </a:cubicBezTo>
                <a:cubicBezTo>
                  <a:pt x="5650" y="6930"/>
                  <a:pt x="5694" y="6929"/>
                  <a:pt x="5705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30280" y="2320920"/>
            <a:ext cx="662040" cy="268200"/>
          </a:xfrm>
          <a:custGeom>
            <a:avLst/>
            <a:gdLst/>
            <a:ahLst/>
            <a:rect l="l" t="t" r="r" b="b"/>
            <a:pathLst>
              <a:path w="1837" h="745">
                <a:moveTo>
                  <a:pt x="6474" y="6697"/>
                </a:moveTo>
                <a:cubicBezTo>
                  <a:pt x="6606" y="6697"/>
                  <a:pt x="6870" y="6820"/>
                  <a:pt x="6821" y="6697"/>
                </a:cubicBezTo>
                <a:cubicBezTo>
                  <a:pt x="6804" y="6654"/>
                  <a:pt x="6778" y="6683"/>
                  <a:pt x="6821" y="6697"/>
                </a:cubicBezTo>
              </a:path>
              <a:path w="1837" h="745">
                <a:moveTo>
                  <a:pt x="7342" y="6573"/>
                </a:moveTo>
                <a:cubicBezTo>
                  <a:pt x="7330" y="6494"/>
                  <a:pt x="7324" y="6499"/>
                  <a:pt x="7243" y="6499"/>
                </a:cubicBezTo>
                <a:cubicBezTo>
                  <a:pt x="7165" y="6499"/>
                  <a:pt x="7110" y="6504"/>
                  <a:pt x="7045" y="6524"/>
                </a:cubicBezTo>
                <a:cubicBezTo>
                  <a:pt x="7029" y="6529"/>
                  <a:pt x="6980" y="6564"/>
                  <a:pt x="6995" y="6598"/>
                </a:cubicBezTo>
                <a:cubicBezTo>
                  <a:pt x="7018" y="6650"/>
                  <a:pt x="7089" y="6685"/>
                  <a:pt x="7119" y="6722"/>
                </a:cubicBezTo>
                <a:cubicBezTo>
                  <a:pt x="7161" y="6774"/>
                  <a:pt x="7228" y="6852"/>
                  <a:pt x="7243" y="6921"/>
                </a:cubicBezTo>
                <a:cubicBezTo>
                  <a:pt x="7256" y="6977"/>
                  <a:pt x="7247" y="7072"/>
                  <a:pt x="7218" y="7119"/>
                </a:cubicBezTo>
                <a:cubicBezTo>
                  <a:pt x="7196" y="7156"/>
                  <a:pt x="7156" y="7144"/>
                  <a:pt x="7119" y="7144"/>
                </a:cubicBezTo>
                <a:cubicBezTo>
                  <a:pt x="7094" y="7144"/>
                  <a:pt x="7086" y="7144"/>
                  <a:pt x="7069" y="7144"/>
                </a:cubicBezTo>
                <a:cubicBezTo>
                  <a:pt x="7069" y="7093"/>
                  <a:pt x="7070" y="7086"/>
                  <a:pt x="7094" y="7045"/>
                </a:cubicBezTo>
                <a:cubicBezTo>
                  <a:pt x="7124" y="6993"/>
                  <a:pt x="7163" y="6947"/>
                  <a:pt x="7193" y="6896"/>
                </a:cubicBezTo>
                <a:cubicBezTo>
                  <a:pt x="7228" y="6837"/>
                  <a:pt x="7269" y="6795"/>
                  <a:pt x="7317" y="6747"/>
                </a:cubicBezTo>
                <a:cubicBezTo>
                  <a:pt x="7356" y="6708"/>
                  <a:pt x="7377" y="6662"/>
                  <a:pt x="7417" y="6623"/>
                </a:cubicBezTo>
              </a:path>
              <a:path w="1837" h="745">
                <a:moveTo>
                  <a:pt x="7615" y="6896"/>
                </a:moveTo>
                <a:cubicBezTo>
                  <a:pt x="7615" y="6855"/>
                  <a:pt x="7628" y="6883"/>
                  <a:pt x="7640" y="6846"/>
                </a:cubicBezTo>
              </a:path>
              <a:path w="1837" h="745">
                <a:moveTo>
                  <a:pt x="7813" y="6573"/>
                </a:moveTo>
                <a:cubicBezTo>
                  <a:pt x="7857" y="6530"/>
                  <a:pt x="7896" y="6503"/>
                  <a:pt x="7938" y="6474"/>
                </a:cubicBezTo>
                <a:cubicBezTo>
                  <a:pt x="7972" y="6451"/>
                  <a:pt x="8065" y="6426"/>
                  <a:pt x="8111" y="6449"/>
                </a:cubicBezTo>
                <a:cubicBezTo>
                  <a:pt x="8152" y="6470"/>
                  <a:pt x="8204" y="6471"/>
                  <a:pt x="8210" y="6524"/>
                </a:cubicBezTo>
                <a:cubicBezTo>
                  <a:pt x="8215" y="6571"/>
                  <a:pt x="8189" y="6611"/>
                  <a:pt x="8161" y="6648"/>
                </a:cubicBezTo>
                <a:cubicBezTo>
                  <a:pt x="8134" y="6684"/>
                  <a:pt x="8097" y="6748"/>
                  <a:pt x="8062" y="6772"/>
                </a:cubicBezTo>
                <a:cubicBezTo>
                  <a:pt x="8002" y="6815"/>
                  <a:pt x="7969" y="6866"/>
                  <a:pt x="7913" y="6921"/>
                </a:cubicBezTo>
                <a:cubicBezTo>
                  <a:pt x="7863" y="6971"/>
                  <a:pt x="7855" y="7046"/>
                  <a:pt x="7813" y="7094"/>
                </a:cubicBezTo>
                <a:cubicBezTo>
                  <a:pt x="7781" y="7129"/>
                  <a:pt x="7776" y="7114"/>
                  <a:pt x="7789" y="7169"/>
                </a:cubicBezTo>
                <a:cubicBezTo>
                  <a:pt x="7798" y="7209"/>
                  <a:pt x="7843" y="7193"/>
                  <a:pt x="7888" y="7193"/>
                </a:cubicBezTo>
                <a:cubicBezTo>
                  <a:pt x="7960" y="7193"/>
                  <a:pt x="8290" y="7227"/>
                  <a:pt x="8310" y="71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43160" y="2367000"/>
            <a:ext cx="142920" cy="169920"/>
          </a:xfrm>
          <a:custGeom>
            <a:avLst/>
            <a:gdLst/>
            <a:ahLst/>
            <a:rect l="l" t="t" r="r" b="b"/>
            <a:pathLst>
              <a:path w="398" h="473">
                <a:moveTo>
                  <a:pt x="8905" y="6573"/>
                </a:moveTo>
                <a:cubicBezTo>
                  <a:pt x="8881" y="6637"/>
                  <a:pt x="8880" y="6678"/>
                  <a:pt x="8880" y="6747"/>
                </a:cubicBezTo>
                <a:cubicBezTo>
                  <a:pt x="8880" y="6832"/>
                  <a:pt x="8838" y="6892"/>
                  <a:pt x="8830" y="6970"/>
                </a:cubicBezTo>
                <a:cubicBezTo>
                  <a:pt x="8828" y="6992"/>
                  <a:pt x="8846" y="7086"/>
                  <a:pt x="8855" y="7020"/>
                </a:cubicBezTo>
                <a:cubicBezTo>
                  <a:pt x="8855" y="7012"/>
                  <a:pt x="8855" y="7003"/>
                  <a:pt x="8855" y="6995"/>
                </a:cubicBezTo>
              </a:path>
              <a:path w="398" h="473">
                <a:moveTo>
                  <a:pt x="8731" y="6846"/>
                </a:moveTo>
                <a:cubicBezTo>
                  <a:pt x="8805" y="6861"/>
                  <a:pt x="8808" y="6850"/>
                  <a:pt x="8880" y="6846"/>
                </a:cubicBezTo>
                <a:cubicBezTo>
                  <a:pt x="8971" y="6841"/>
                  <a:pt x="9037" y="6841"/>
                  <a:pt x="9128" y="68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46640" y="2313000"/>
            <a:ext cx="482400" cy="276120"/>
          </a:xfrm>
          <a:custGeom>
            <a:avLst/>
            <a:gdLst/>
            <a:ahLst/>
            <a:rect l="l" t="t" r="r" b="b"/>
            <a:pathLst>
              <a:path w="1340" h="770">
                <a:moveTo>
                  <a:pt x="9649" y="6424"/>
                </a:moveTo>
                <a:cubicBezTo>
                  <a:pt x="9649" y="6504"/>
                  <a:pt x="9636" y="6550"/>
                  <a:pt x="9624" y="6623"/>
                </a:cubicBezTo>
                <a:cubicBezTo>
                  <a:pt x="9612" y="6694"/>
                  <a:pt x="9603" y="6774"/>
                  <a:pt x="9599" y="6846"/>
                </a:cubicBezTo>
                <a:cubicBezTo>
                  <a:pt x="9595" y="6914"/>
                  <a:pt x="9591" y="6963"/>
                  <a:pt x="9575" y="7020"/>
                </a:cubicBezTo>
                <a:cubicBezTo>
                  <a:pt x="9558" y="7078"/>
                  <a:pt x="9575" y="7069"/>
                  <a:pt x="9575" y="7069"/>
                </a:cubicBezTo>
                <a:cubicBezTo>
                  <a:pt x="9607" y="7056"/>
                  <a:pt x="9596" y="7057"/>
                  <a:pt x="9624" y="7020"/>
                </a:cubicBezTo>
              </a:path>
              <a:path w="1340" h="770">
                <a:moveTo>
                  <a:pt x="9847" y="6846"/>
                </a:moveTo>
                <a:cubicBezTo>
                  <a:pt x="9847" y="6838"/>
                  <a:pt x="9847" y="6829"/>
                  <a:pt x="9847" y="6821"/>
                </a:cubicBezTo>
              </a:path>
              <a:path w="1340" h="770">
                <a:moveTo>
                  <a:pt x="10096" y="6672"/>
                </a:moveTo>
                <a:cubicBezTo>
                  <a:pt x="10183" y="6672"/>
                  <a:pt x="10297" y="6690"/>
                  <a:pt x="10368" y="6648"/>
                </a:cubicBezTo>
              </a:path>
              <a:path w="1340" h="770">
                <a:moveTo>
                  <a:pt x="10517" y="6449"/>
                </a:moveTo>
                <a:cubicBezTo>
                  <a:pt x="10567" y="6419"/>
                  <a:pt x="10604" y="6424"/>
                  <a:pt x="10666" y="6424"/>
                </a:cubicBezTo>
                <a:cubicBezTo>
                  <a:pt x="10752" y="6424"/>
                  <a:pt x="10806" y="6440"/>
                  <a:pt x="10864" y="6499"/>
                </a:cubicBezTo>
                <a:cubicBezTo>
                  <a:pt x="10911" y="6546"/>
                  <a:pt x="10933" y="6557"/>
                  <a:pt x="10889" y="6623"/>
                </a:cubicBezTo>
                <a:cubicBezTo>
                  <a:pt x="10849" y="6683"/>
                  <a:pt x="10821" y="6705"/>
                  <a:pt x="10765" y="6747"/>
                </a:cubicBezTo>
                <a:cubicBezTo>
                  <a:pt x="10733" y="6771"/>
                  <a:pt x="10696" y="6776"/>
                  <a:pt x="10666" y="6796"/>
                </a:cubicBezTo>
                <a:cubicBezTo>
                  <a:pt x="10643" y="6819"/>
                  <a:pt x="10635" y="6823"/>
                  <a:pt x="10641" y="6846"/>
                </a:cubicBezTo>
                <a:cubicBezTo>
                  <a:pt x="10686" y="6835"/>
                  <a:pt x="10711" y="6821"/>
                  <a:pt x="10765" y="6821"/>
                </a:cubicBezTo>
                <a:cubicBezTo>
                  <a:pt x="10852" y="6821"/>
                  <a:pt x="10838" y="6808"/>
                  <a:pt x="10889" y="6871"/>
                </a:cubicBezTo>
                <a:cubicBezTo>
                  <a:pt x="10926" y="6916"/>
                  <a:pt x="10914" y="6960"/>
                  <a:pt x="10914" y="7020"/>
                </a:cubicBezTo>
                <a:cubicBezTo>
                  <a:pt x="10914" y="7093"/>
                  <a:pt x="10877" y="7111"/>
                  <a:pt x="10815" y="7144"/>
                </a:cubicBezTo>
                <a:cubicBezTo>
                  <a:pt x="10763" y="7172"/>
                  <a:pt x="10721" y="7189"/>
                  <a:pt x="10666" y="7193"/>
                </a:cubicBezTo>
                <a:cubicBezTo>
                  <a:pt x="10645" y="7195"/>
                  <a:pt x="10562" y="7180"/>
                  <a:pt x="10542" y="7169"/>
                </a:cubicBezTo>
                <a:cubicBezTo>
                  <a:pt x="10510" y="7151"/>
                  <a:pt x="10506" y="7178"/>
                  <a:pt x="10492" y="7144"/>
                </a:cubicBezTo>
                <a:cubicBezTo>
                  <a:pt x="10492" y="7119"/>
                  <a:pt x="10492" y="7111"/>
                  <a:pt x="10517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81320" y="2419200"/>
            <a:ext cx="115920" cy="81000"/>
          </a:xfrm>
          <a:custGeom>
            <a:avLst/>
            <a:gdLst/>
            <a:ahLst/>
            <a:rect l="l" t="t" r="r" b="b"/>
            <a:pathLst>
              <a:path w="323" h="224">
                <a:moveTo>
                  <a:pt x="11385" y="6722"/>
                </a:moveTo>
                <a:cubicBezTo>
                  <a:pt x="11482" y="6722"/>
                  <a:pt x="11510" y="6722"/>
                  <a:pt x="11584" y="6747"/>
                </a:cubicBezTo>
                <a:cubicBezTo>
                  <a:pt x="11603" y="6753"/>
                  <a:pt x="11638" y="6747"/>
                  <a:pt x="11658" y="6747"/>
                </a:cubicBezTo>
              </a:path>
              <a:path w="323" h="224">
                <a:moveTo>
                  <a:pt x="11336" y="6921"/>
                </a:moveTo>
                <a:cubicBezTo>
                  <a:pt x="11399" y="6947"/>
                  <a:pt x="11439" y="6945"/>
                  <a:pt x="11509" y="6945"/>
                </a:cubicBezTo>
                <a:cubicBezTo>
                  <a:pt x="11559" y="6945"/>
                  <a:pt x="11608" y="6945"/>
                  <a:pt x="11658" y="69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30800" y="2303640"/>
            <a:ext cx="1805040" cy="358560"/>
          </a:xfrm>
          <a:custGeom>
            <a:avLst/>
            <a:gdLst/>
            <a:ahLst/>
            <a:rect l="l" t="t" r="r" b="b"/>
            <a:pathLst>
              <a:path w="5012" h="993">
                <a:moveTo>
                  <a:pt x="12030" y="6722"/>
                </a:moveTo>
                <a:cubicBezTo>
                  <a:pt x="12127" y="6748"/>
                  <a:pt x="12148" y="6738"/>
                  <a:pt x="12229" y="6722"/>
                </a:cubicBezTo>
                <a:cubicBezTo>
                  <a:pt x="12278" y="6722"/>
                  <a:pt x="12295" y="6722"/>
                  <a:pt x="12328" y="6722"/>
                </a:cubicBezTo>
              </a:path>
              <a:path w="5012" h="993">
                <a:moveTo>
                  <a:pt x="12526" y="6424"/>
                </a:moveTo>
                <a:cubicBezTo>
                  <a:pt x="12503" y="6504"/>
                  <a:pt x="12521" y="6571"/>
                  <a:pt x="12502" y="6648"/>
                </a:cubicBezTo>
                <a:cubicBezTo>
                  <a:pt x="12482" y="6729"/>
                  <a:pt x="12494" y="6814"/>
                  <a:pt x="12477" y="6896"/>
                </a:cubicBezTo>
                <a:cubicBezTo>
                  <a:pt x="12460" y="6977"/>
                  <a:pt x="12452" y="7035"/>
                  <a:pt x="12452" y="7119"/>
                </a:cubicBezTo>
                <a:cubicBezTo>
                  <a:pt x="12452" y="7127"/>
                  <a:pt x="12452" y="7136"/>
                  <a:pt x="12452" y="7144"/>
                </a:cubicBezTo>
                <a:cubicBezTo>
                  <a:pt x="12408" y="7166"/>
                  <a:pt x="12463" y="7037"/>
                  <a:pt x="12477" y="6970"/>
                </a:cubicBezTo>
              </a:path>
              <a:path w="5012" h="993">
                <a:moveTo>
                  <a:pt x="12849" y="6474"/>
                </a:moveTo>
                <a:cubicBezTo>
                  <a:pt x="12867" y="6535"/>
                  <a:pt x="12862" y="6581"/>
                  <a:pt x="12824" y="6648"/>
                </a:cubicBezTo>
                <a:cubicBezTo>
                  <a:pt x="12776" y="6731"/>
                  <a:pt x="12741" y="6810"/>
                  <a:pt x="12700" y="6896"/>
                </a:cubicBezTo>
                <a:cubicBezTo>
                  <a:pt x="12676" y="6945"/>
                  <a:pt x="12646" y="7028"/>
                  <a:pt x="12700" y="7069"/>
                </a:cubicBezTo>
                <a:cubicBezTo>
                  <a:pt x="12749" y="7107"/>
                  <a:pt x="12809" y="7137"/>
                  <a:pt x="12874" y="7119"/>
                </a:cubicBezTo>
                <a:cubicBezTo>
                  <a:pt x="12942" y="7100"/>
                  <a:pt x="12984" y="7078"/>
                  <a:pt x="13047" y="7045"/>
                </a:cubicBezTo>
                <a:cubicBezTo>
                  <a:pt x="13113" y="7010"/>
                  <a:pt x="13140" y="6967"/>
                  <a:pt x="13146" y="6896"/>
                </a:cubicBezTo>
                <a:cubicBezTo>
                  <a:pt x="13146" y="6861"/>
                  <a:pt x="13142" y="6843"/>
                  <a:pt x="13122" y="6821"/>
                </a:cubicBezTo>
                <a:cubicBezTo>
                  <a:pt x="13045" y="6836"/>
                  <a:pt x="13041" y="6842"/>
                  <a:pt x="12998" y="6896"/>
                </a:cubicBezTo>
                <a:cubicBezTo>
                  <a:pt x="12967" y="6934"/>
                  <a:pt x="12928" y="6975"/>
                  <a:pt x="12923" y="7020"/>
                </a:cubicBezTo>
                <a:cubicBezTo>
                  <a:pt x="12922" y="7032"/>
                  <a:pt x="12919" y="7205"/>
                  <a:pt x="12998" y="7169"/>
                </a:cubicBezTo>
                <a:cubicBezTo>
                  <a:pt x="13006" y="7161"/>
                  <a:pt x="13014" y="7152"/>
                  <a:pt x="13022" y="7144"/>
                </a:cubicBezTo>
              </a:path>
              <a:path w="5012" h="993">
                <a:moveTo>
                  <a:pt x="13519" y="6548"/>
                </a:moveTo>
                <a:cubicBezTo>
                  <a:pt x="13519" y="6704"/>
                  <a:pt x="13503" y="6880"/>
                  <a:pt x="13543" y="7020"/>
                </a:cubicBezTo>
                <a:cubicBezTo>
                  <a:pt x="13545" y="7026"/>
                  <a:pt x="13543" y="7111"/>
                  <a:pt x="13543" y="7045"/>
                </a:cubicBezTo>
              </a:path>
              <a:path w="5012" h="993">
                <a:moveTo>
                  <a:pt x="13320" y="6796"/>
                </a:moveTo>
                <a:cubicBezTo>
                  <a:pt x="13402" y="6837"/>
                  <a:pt x="13450" y="6846"/>
                  <a:pt x="13543" y="6846"/>
                </a:cubicBezTo>
                <a:cubicBezTo>
                  <a:pt x="13626" y="6846"/>
                  <a:pt x="13708" y="6846"/>
                  <a:pt x="13791" y="6846"/>
                </a:cubicBezTo>
              </a:path>
              <a:path w="5012" h="993">
                <a:moveTo>
                  <a:pt x="13915" y="6697"/>
                </a:moveTo>
                <a:cubicBezTo>
                  <a:pt x="13993" y="6697"/>
                  <a:pt x="14052" y="6709"/>
                  <a:pt x="14114" y="6672"/>
                </a:cubicBezTo>
              </a:path>
              <a:path w="5012" h="993">
                <a:moveTo>
                  <a:pt x="14312" y="6449"/>
                </a:moveTo>
                <a:cubicBezTo>
                  <a:pt x="14382" y="6423"/>
                  <a:pt x="14429" y="6417"/>
                  <a:pt x="14486" y="6424"/>
                </a:cubicBezTo>
                <a:cubicBezTo>
                  <a:pt x="14565" y="6434"/>
                  <a:pt x="14589" y="6415"/>
                  <a:pt x="14635" y="6474"/>
                </a:cubicBezTo>
                <a:cubicBezTo>
                  <a:pt x="14660" y="6507"/>
                  <a:pt x="14665" y="6590"/>
                  <a:pt x="14635" y="6623"/>
                </a:cubicBezTo>
                <a:cubicBezTo>
                  <a:pt x="14614" y="6646"/>
                  <a:pt x="14489" y="6714"/>
                  <a:pt x="14461" y="6722"/>
                </a:cubicBezTo>
                <a:cubicBezTo>
                  <a:pt x="14405" y="6737"/>
                  <a:pt x="14383" y="6737"/>
                  <a:pt x="14337" y="6772"/>
                </a:cubicBezTo>
                <a:cubicBezTo>
                  <a:pt x="14391" y="6772"/>
                  <a:pt x="14416" y="6752"/>
                  <a:pt x="14461" y="6747"/>
                </a:cubicBezTo>
                <a:cubicBezTo>
                  <a:pt x="14498" y="6743"/>
                  <a:pt x="14646" y="6726"/>
                  <a:pt x="14660" y="6772"/>
                </a:cubicBezTo>
                <a:cubicBezTo>
                  <a:pt x="14677" y="6827"/>
                  <a:pt x="14700" y="6907"/>
                  <a:pt x="14684" y="6970"/>
                </a:cubicBezTo>
                <a:cubicBezTo>
                  <a:pt x="14670" y="7024"/>
                  <a:pt x="14661" y="7086"/>
                  <a:pt x="14610" y="7119"/>
                </a:cubicBezTo>
                <a:cubicBezTo>
                  <a:pt x="14549" y="7158"/>
                  <a:pt x="14483" y="7188"/>
                  <a:pt x="14412" y="7193"/>
                </a:cubicBezTo>
                <a:cubicBezTo>
                  <a:pt x="14363" y="7197"/>
                  <a:pt x="14312" y="7193"/>
                  <a:pt x="14263" y="7193"/>
                </a:cubicBezTo>
                <a:cubicBezTo>
                  <a:pt x="14276" y="7154"/>
                  <a:pt x="14392" y="7116"/>
                  <a:pt x="14436" y="7094"/>
                </a:cubicBezTo>
              </a:path>
              <a:path w="5012" h="993">
                <a:moveTo>
                  <a:pt x="15056" y="6796"/>
                </a:moveTo>
                <a:cubicBezTo>
                  <a:pt x="15136" y="6803"/>
                  <a:pt x="15198" y="6821"/>
                  <a:pt x="15280" y="6821"/>
                </a:cubicBezTo>
                <a:cubicBezTo>
                  <a:pt x="15313" y="6821"/>
                  <a:pt x="15346" y="6821"/>
                  <a:pt x="15379" y="6821"/>
                </a:cubicBezTo>
              </a:path>
              <a:path w="5012" h="993">
                <a:moveTo>
                  <a:pt x="15007" y="7020"/>
                </a:moveTo>
                <a:cubicBezTo>
                  <a:pt x="15074" y="7020"/>
                  <a:pt x="15118" y="7035"/>
                  <a:pt x="15180" y="7045"/>
                </a:cubicBezTo>
                <a:cubicBezTo>
                  <a:pt x="15253" y="7057"/>
                  <a:pt x="15308" y="7092"/>
                  <a:pt x="15379" y="7069"/>
                </a:cubicBezTo>
                <a:cubicBezTo>
                  <a:pt x="15434" y="7051"/>
                  <a:pt x="15381" y="7020"/>
                  <a:pt x="15453" y="7020"/>
                </a:cubicBezTo>
              </a:path>
              <a:path w="5012" h="993">
                <a:moveTo>
                  <a:pt x="15726" y="6672"/>
                </a:moveTo>
                <a:cubicBezTo>
                  <a:pt x="15842" y="6672"/>
                  <a:pt x="15957" y="6672"/>
                  <a:pt x="16073" y="6672"/>
                </a:cubicBezTo>
              </a:path>
              <a:path w="5012" h="993">
                <a:moveTo>
                  <a:pt x="16297" y="6449"/>
                </a:moveTo>
                <a:cubicBezTo>
                  <a:pt x="16297" y="6587"/>
                  <a:pt x="16317" y="7246"/>
                  <a:pt x="16321" y="7243"/>
                </a:cubicBezTo>
              </a:path>
              <a:path w="5012" h="993">
                <a:moveTo>
                  <a:pt x="16917" y="6598"/>
                </a:moveTo>
                <a:cubicBezTo>
                  <a:pt x="16972" y="6543"/>
                  <a:pt x="16997" y="6545"/>
                  <a:pt x="16991" y="6499"/>
                </a:cubicBezTo>
                <a:cubicBezTo>
                  <a:pt x="16932" y="6484"/>
                  <a:pt x="16910" y="6456"/>
                  <a:pt x="16842" y="6499"/>
                </a:cubicBezTo>
                <a:cubicBezTo>
                  <a:pt x="16783" y="6536"/>
                  <a:pt x="16692" y="6629"/>
                  <a:pt x="16669" y="6697"/>
                </a:cubicBezTo>
                <a:cubicBezTo>
                  <a:pt x="16646" y="6765"/>
                  <a:pt x="16623" y="6819"/>
                  <a:pt x="16669" y="6871"/>
                </a:cubicBezTo>
                <a:cubicBezTo>
                  <a:pt x="16698" y="6904"/>
                  <a:pt x="16777" y="6912"/>
                  <a:pt x="16818" y="6896"/>
                </a:cubicBezTo>
                <a:cubicBezTo>
                  <a:pt x="16860" y="6880"/>
                  <a:pt x="16915" y="6837"/>
                  <a:pt x="16942" y="6796"/>
                </a:cubicBezTo>
                <a:cubicBezTo>
                  <a:pt x="16973" y="6749"/>
                  <a:pt x="16960" y="6653"/>
                  <a:pt x="17016" y="6648"/>
                </a:cubicBezTo>
                <a:cubicBezTo>
                  <a:pt x="17016" y="6656"/>
                  <a:pt x="17016" y="6664"/>
                  <a:pt x="17016" y="6672"/>
                </a:cubicBezTo>
                <a:cubicBezTo>
                  <a:pt x="16965" y="6748"/>
                  <a:pt x="16966" y="6805"/>
                  <a:pt x="16966" y="6896"/>
                </a:cubicBezTo>
                <a:cubicBezTo>
                  <a:pt x="16966" y="6996"/>
                  <a:pt x="16977" y="7074"/>
                  <a:pt x="16991" y="7169"/>
                </a:cubicBezTo>
                <a:cubicBezTo>
                  <a:pt x="17000" y="7233"/>
                  <a:pt x="17024" y="7287"/>
                  <a:pt x="17041" y="7342"/>
                </a:cubicBezTo>
                <a:cubicBezTo>
                  <a:pt x="17055" y="7387"/>
                  <a:pt x="17041" y="7404"/>
                  <a:pt x="17041" y="7342"/>
                </a:cubicBezTo>
                <a:cubicBezTo>
                  <a:pt x="17041" y="7334"/>
                  <a:pt x="17041" y="7325"/>
                  <a:pt x="17041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2973240"/>
            <a:ext cx="160560" cy="54000"/>
          </a:xfrm>
          <a:custGeom>
            <a:avLst/>
            <a:gdLst/>
            <a:ahLst/>
            <a:rect l="l" t="t" r="r" b="b"/>
            <a:pathLst>
              <a:path w="447" h="150">
                <a:moveTo>
                  <a:pt x="6772" y="8260"/>
                </a:moveTo>
                <a:cubicBezTo>
                  <a:pt x="6871" y="8260"/>
                  <a:pt x="6970" y="8260"/>
                  <a:pt x="7069" y="8260"/>
                </a:cubicBezTo>
                <a:cubicBezTo>
                  <a:pt x="7045" y="8260"/>
                  <a:pt x="7037" y="8260"/>
                  <a:pt x="7045" y="8285"/>
                </a:cubicBezTo>
              </a:path>
              <a:path w="447" h="150">
                <a:moveTo>
                  <a:pt x="6846" y="8409"/>
                </a:moveTo>
                <a:cubicBezTo>
                  <a:pt x="6970" y="8409"/>
                  <a:pt x="7094" y="8409"/>
                  <a:pt x="7218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67040" y="2813040"/>
            <a:ext cx="3125880" cy="482760"/>
          </a:xfrm>
          <a:custGeom>
            <a:avLst/>
            <a:gdLst/>
            <a:ahLst/>
            <a:rect l="l" t="t" r="r" b="b"/>
            <a:pathLst>
              <a:path w="8683" h="1341">
                <a:moveTo>
                  <a:pt x="8632" y="7913"/>
                </a:moveTo>
                <a:cubicBezTo>
                  <a:pt x="8623" y="7941"/>
                  <a:pt x="8612" y="7957"/>
                  <a:pt x="8582" y="7987"/>
                </a:cubicBezTo>
                <a:cubicBezTo>
                  <a:pt x="8542" y="8028"/>
                  <a:pt x="8485" y="8059"/>
                  <a:pt x="8434" y="8086"/>
                </a:cubicBezTo>
                <a:cubicBezTo>
                  <a:pt x="8342" y="8135"/>
                  <a:pt x="8252" y="8183"/>
                  <a:pt x="8161" y="8235"/>
                </a:cubicBezTo>
                <a:cubicBezTo>
                  <a:pt x="8117" y="8260"/>
                  <a:pt x="8055" y="8296"/>
                  <a:pt x="8012" y="8310"/>
                </a:cubicBezTo>
                <a:cubicBezTo>
                  <a:pt x="7984" y="8310"/>
                  <a:pt x="7973" y="8312"/>
                  <a:pt x="7962" y="8334"/>
                </a:cubicBezTo>
                <a:cubicBezTo>
                  <a:pt x="8010" y="8334"/>
                  <a:pt x="8021" y="8324"/>
                  <a:pt x="8037" y="8359"/>
                </a:cubicBezTo>
                <a:cubicBezTo>
                  <a:pt x="8057" y="8402"/>
                  <a:pt x="8117" y="8452"/>
                  <a:pt x="8161" y="8483"/>
                </a:cubicBezTo>
                <a:cubicBezTo>
                  <a:pt x="8219" y="8524"/>
                  <a:pt x="8307" y="8578"/>
                  <a:pt x="8359" y="8632"/>
                </a:cubicBezTo>
                <a:cubicBezTo>
                  <a:pt x="8427" y="8702"/>
                  <a:pt x="8461" y="8709"/>
                  <a:pt x="8533" y="8781"/>
                </a:cubicBezTo>
                <a:cubicBezTo>
                  <a:pt x="8580" y="8828"/>
                  <a:pt x="8562" y="8792"/>
                  <a:pt x="8607" y="8855"/>
                </a:cubicBezTo>
                <a:cubicBezTo>
                  <a:pt x="8607" y="8799"/>
                  <a:pt x="8592" y="8794"/>
                  <a:pt x="8632" y="8781"/>
                </a:cubicBezTo>
              </a:path>
              <a:path w="8683" h="1341">
                <a:moveTo>
                  <a:pt x="8954" y="8111"/>
                </a:moveTo>
                <a:cubicBezTo>
                  <a:pt x="8935" y="8157"/>
                  <a:pt x="8922" y="8195"/>
                  <a:pt x="8905" y="8235"/>
                </a:cubicBezTo>
                <a:cubicBezTo>
                  <a:pt x="8889" y="8272"/>
                  <a:pt x="8862" y="8320"/>
                  <a:pt x="8855" y="8334"/>
                </a:cubicBezTo>
                <a:cubicBezTo>
                  <a:pt x="8855" y="8342"/>
                  <a:pt x="8855" y="8351"/>
                  <a:pt x="8855" y="8359"/>
                </a:cubicBezTo>
                <a:cubicBezTo>
                  <a:pt x="8952" y="8359"/>
                  <a:pt x="9076" y="8330"/>
                  <a:pt x="9128" y="8409"/>
                </a:cubicBezTo>
                <a:cubicBezTo>
                  <a:pt x="9166" y="8363"/>
                  <a:pt x="9181" y="8366"/>
                  <a:pt x="9203" y="8334"/>
                </a:cubicBezTo>
              </a:path>
              <a:path w="8683" h="1341">
                <a:moveTo>
                  <a:pt x="9178" y="7938"/>
                </a:moveTo>
                <a:cubicBezTo>
                  <a:pt x="9178" y="8083"/>
                  <a:pt x="9175" y="8222"/>
                  <a:pt x="9153" y="8359"/>
                </a:cubicBezTo>
                <a:cubicBezTo>
                  <a:pt x="9130" y="8502"/>
                  <a:pt x="9163" y="8642"/>
                  <a:pt x="9128" y="8781"/>
                </a:cubicBezTo>
                <a:cubicBezTo>
                  <a:pt x="9115" y="8834"/>
                  <a:pt x="9165" y="8750"/>
                  <a:pt x="9178" y="8731"/>
                </a:cubicBezTo>
              </a:path>
              <a:path w="8683" h="1341">
                <a:moveTo>
                  <a:pt x="9451" y="8632"/>
                </a:moveTo>
                <a:cubicBezTo>
                  <a:pt x="9451" y="8716"/>
                  <a:pt x="9436" y="8779"/>
                  <a:pt x="9426" y="8855"/>
                </a:cubicBezTo>
                <a:cubicBezTo>
                  <a:pt x="9418" y="8912"/>
                  <a:pt x="9421" y="9058"/>
                  <a:pt x="9401" y="9004"/>
                </a:cubicBezTo>
                <a:cubicBezTo>
                  <a:pt x="9401" y="8987"/>
                  <a:pt x="9401" y="8971"/>
                  <a:pt x="9401" y="8954"/>
                </a:cubicBezTo>
              </a:path>
              <a:path w="8683" h="1341">
                <a:moveTo>
                  <a:pt x="9748" y="8260"/>
                </a:moveTo>
                <a:cubicBezTo>
                  <a:pt x="9812" y="8260"/>
                  <a:pt x="9951" y="8292"/>
                  <a:pt x="9996" y="8285"/>
                </a:cubicBezTo>
                <a:cubicBezTo>
                  <a:pt x="10013" y="8277"/>
                  <a:pt x="10029" y="8268"/>
                  <a:pt x="10046" y="8260"/>
                </a:cubicBezTo>
              </a:path>
              <a:path w="8683" h="1341">
                <a:moveTo>
                  <a:pt x="10418" y="8012"/>
                </a:moveTo>
                <a:cubicBezTo>
                  <a:pt x="10418" y="8064"/>
                  <a:pt x="10390" y="8141"/>
                  <a:pt x="10368" y="8186"/>
                </a:cubicBezTo>
                <a:cubicBezTo>
                  <a:pt x="10340" y="8243"/>
                  <a:pt x="10322" y="8307"/>
                  <a:pt x="10294" y="8359"/>
                </a:cubicBezTo>
                <a:cubicBezTo>
                  <a:pt x="10262" y="8418"/>
                  <a:pt x="10227" y="8567"/>
                  <a:pt x="10244" y="8632"/>
                </a:cubicBezTo>
                <a:cubicBezTo>
                  <a:pt x="10255" y="8672"/>
                  <a:pt x="10275" y="8716"/>
                  <a:pt x="10319" y="8731"/>
                </a:cubicBezTo>
                <a:cubicBezTo>
                  <a:pt x="10371" y="8748"/>
                  <a:pt x="10422" y="8714"/>
                  <a:pt x="10468" y="8706"/>
                </a:cubicBezTo>
                <a:cubicBezTo>
                  <a:pt x="10528" y="8696"/>
                  <a:pt x="10596" y="8669"/>
                  <a:pt x="10616" y="8632"/>
                </a:cubicBezTo>
                <a:cubicBezTo>
                  <a:pt x="10636" y="8595"/>
                  <a:pt x="10641" y="8529"/>
                  <a:pt x="10641" y="8483"/>
                </a:cubicBezTo>
                <a:cubicBezTo>
                  <a:pt x="10600" y="8483"/>
                  <a:pt x="10549" y="8473"/>
                  <a:pt x="10517" y="8508"/>
                </a:cubicBezTo>
                <a:cubicBezTo>
                  <a:pt x="10498" y="8528"/>
                  <a:pt x="10418" y="8631"/>
                  <a:pt x="10418" y="8632"/>
                </a:cubicBezTo>
                <a:cubicBezTo>
                  <a:pt x="10405" y="8690"/>
                  <a:pt x="10417" y="8758"/>
                  <a:pt x="10443" y="8781"/>
                </a:cubicBezTo>
                <a:cubicBezTo>
                  <a:pt x="10481" y="8814"/>
                  <a:pt x="10461" y="8834"/>
                  <a:pt x="10492" y="8855"/>
                </a:cubicBezTo>
              </a:path>
              <a:path w="8683" h="1341">
                <a:moveTo>
                  <a:pt x="10939" y="7813"/>
                </a:moveTo>
                <a:cubicBezTo>
                  <a:pt x="10993" y="7837"/>
                  <a:pt x="11043" y="7846"/>
                  <a:pt x="11088" y="7888"/>
                </a:cubicBezTo>
                <a:cubicBezTo>
                  <a:pt x="11155" y="7951"/>
                  <a:pt x="11253" y="7974"/>
                  <a:pt x="11336" y="8012"/>
                </a:cubicBezTo>
                <a:cubicBezTo>
                  <a:pt x="11393" y="8038"/>
                  <a:pt x="11456" y="8071"/>
                  <a:pt x="11509" y="8086"/>
                </a:cubicBezTo>
                <a:cubicBezTo>
                  <a:pt x="11534" y="8086"/>
                  <a:pt x="11542" y="8086"/>
                  <a:pt x="11534" y="8111"/>
                </a:cubicBezTo>
                <a:cubicBezTo>
                  <a:pt x="11524" y="8140"/>
                  <a:pt x="11492" y="8154"/>
                  <a:pt x="11460" y="8186"/>
                </a:cubicBezTo>
                <a:cubicBezTo>
                  <a:pt x="11427" y="8219"/>
                  <a:pt x="11355" y="8302"/>
                  <a:pt x="11336" y="8334"/>
                </a:cubicBezTo>
                <a:cubicBezTo>
                  <a:pt x="11291" y="8409"/>
                  <a:pt x="11267" y="8485"/>
                  <a:pt x="11212" y="8558"/>
                </a:cubicBezTo>
                <a:cubicBezTo>
                  <a:pt x="11159" y="8629"/>
                  <a:pt x="11116" y="8710"/>
                  <a:pt x="11063" y="8781"/>
                </a:cubicBezTo>
                <a:cubicBezTo>
                  <a:pt x="11033" y="8811"/>
                  <a:pt x="11022" y="8825"/>
                  <a:pt x="11013" y="8855"/>
                </a:cubicBezTo>
                <a:cubicBezTo>
                  <a:pt x="11070" y="8827"/>
                  <a:pt x="11061" y="8792"/>
                  <a:pt x="11137" y="8781"/>
                </a:cubicBezTo>
              </a:path>
              <a:path w="8683" h="1341">
                <a:moveTo>
                  <a:pt x="11906" y="8334"/>
                </a:moveTo>
                <a:cubicBezTo>
                  <a:pt x="11872" y="8360"/>
                  <a:pt x="11841" y="8388"/>
                  <a:pt x="11832" y="8409"/>
                </a:cubicBezTo>
                <a:cubicBezTo>
                  <a:pt x="11814" y="8451"/>
                  <a:pt x="11836" y="8469"/>
                  <a:pt x="11857" y="8483"/>
                </a:cubicBezTo>
                <a:cubicBezTo>
                  <a:pt x="11909" y="8483"/>
                  <a:pt x="11921" y="8458"/>
                  <a:pt x="11931" y="8409"/>
                </a:cubicBezTo>
                <a:cubicBezTo>
                  <a:pt x="11931" y="8392"/>
                  <a:pt x="11931" y="8376"/>
                  <a:pt x="11931" y="8359"/>
                </a:cubicBezTo>
                <a:cubicBezTo>
                  <a:pt x="11919" y="8365"/>
                  <a:pt x="11839" y="8412"/>
                  <a:pt x="11832" y="8434"/>
                </a:cubicBezTo>
                <a:cubicBezTo>
                  <a:pt x="11832" y="8450"/>
                  <a:pt x="11832" y="8467"/>
                  <a:pt x="11832" y="8483"/>
                </a:cubicBezTo>
              </a:path>
              <a:path w="8683" h="1341">
                <a:moveTo>
                  <a:pt x="12973" y="7888"/>
                </a:moveTo>
                <a:cubicBezTo>
                  <a:pt x="12957" y="7904"/>
                  <a:pt x="12927" y="7933"/>
                  <a:pt x="12898" y="7962"/>
                </a:cubicBezTo>
                <a:cubicBezTo>
                  <a:pt x="12853" y="8008"/>
                  <a:pt x="12788" y="8039"/>
                  <a:pt x="12750" y="8086"/>
                </a:cubicBezTo>
                <a:cubicBezTo>
                  <a:pt x="12690" y="8162"/>
                  <a:pt x="12622" y="8225"/>
                  <a:pt x="12551" y="8285"/>
                </a:cubicBezTo>
                <a:cubicBezTo>
                  <a:pt x="12504" y="8324"/>
                  <a:pt x="12469" y="8372"/>
                  <a:pt x="12427" y="8409"/>
                </a:cubicBezTo>
                <a:cubicBezTo>
                  <a:pt x="12392" y="8439"/>
                  <a:pt x="12386" y="8425"/>
                  <a:pt x="12353" y="8483"/>
                </a:cubicBezTo>
                <a:cubicBezTo>
                  <a:pt x="12380" y="8502"/>
                  <a:pt x="12435" y="8536"/>
                  <a:pt x="12452" y="8558"/>
                </a:cubicBezTo>
                <a:cubicBezTo>
                  <a:pt x="12465" y="8575"/>
                  <a:pt x="12554" y="8693"/>
                  <a:pt x="12576" y="8706"/>
                </a:cubicBezTo>
                <a:cubicBezTo>
                  <a:pt x="12650" y="8750"/>
                  <a:pt x="12764" y="8817"/>
                  <a:pt x="12849" y="8880"/>
                </a:cubicBezTo>
                <a:cubicBezTo>
                  <a:pt x="12907" y="8923"/>
                  <a:pt x="12951" y="8981"/>
                  <a:pt x="12998" y="9004"/>
                </a:cubicBezTo>
                <a:cubicBezTo>
                  <a:pt x="13036" y="9023"/>
                  <a:pt x="13130" y="9104"/>
                  <a:pt x="13097" y="9029"/>
                </a:cubicBezTo>
                <a:cubicBezTo>
                  <a:pt x="13089" y="9021"/>
                  <a:pt x="13080" y="9012"/>
                  <a:pt x="13072" y="9004"/>
                </a:cubicBezTo>
              </a:path>
              <a:path w="8683" h="1341">
                <a:moveTo>
                  <a:pt x="12998" y="8409"/>
                </a:moveTo>
                <a:cubicBezTo>
                  <a:pt x="13051" y="8416"/>
                  <a:pt x="13092" y="8434"/>
                  <a:pt x="13146" y="8434"/>
                </a:cubicBezTo>
                <a:cubicBezTo>
                  <a:pt x="13203" y="8434"/>
                  <a:pt x="13225" y="8425"/>
                  <a:pt x="13271" y="8409"/>
                </a:cubicBezTo>
                <a:cubicBezTo>
                  <a:pt x="13311" y="8409"/>
                  <a:pt x="13330" y="8398"/>
                  <a:pt x="13345" y="8359"/>
                </a:cubicBezTo>
              </a:path>
              <a:path w="8683" h="1341">
                <a:moveTo>
                  <a:pt x="13519" y="8136"/>
                </a:moveTo>
                <a:cubicBezTo>
                  <a:pt x="13585" y="8090"/>
                  <a:pt x="13636" y="8042"/>
                  <a:pt x="13717" y="8037"/>
                </a:cubicBezTo>
                <a:cubicBezTo>
                  <a:pt x="13778" y="8033"/>
                  <a:pt x="13810" y="8056"/>
                  <a:pt x="13866" y="8062"/>
                </a:cubicBezTo>
                <a:cubicBezTo>
                  <a:pt x="13895" y="8065"/>
                  <a:pt x="13925" y="8121"/>
                  <a:pt x="13915" y="8161"/>
                </a:cubicBezTo>
                <a:cubicBezTo>
                  <a:pt x="13899" y="8223"/>
                  <a:pt x="13885" y="8286"/>
                  <a:pt x="13841" y="8334"/>
                </a:cubicBezTo>
                <a:cubicBezTo>
                  <a:pt x="13799" y="8381"/>
                  <a:pt x="13742" y="8427"/>
                  <a:pt x="13717" y="8483"/>
                </a:cubicBezTo>
                <a:cubicBezTo>
                  <a:pt x="13678" y="8569"/>
                  <a:pt x="13643" y="8569"/>
                  <a:pt x="13593" y="8657"/>
                </a:cubicBezTo>
                <a:cubicBezTo>
                  <a:pt x="13565" y="8706"/>
                  <a:pt x="13523" y="8748"/>
                  <a:pt x="13519" y="8806"/>
                </a:cubicBezTo>
                <a:cubicBezTo>
                  <a:pt x="13514" y="8889"/>
                  <a:pt x="13512" y="8826"/>
                  <a:pt x="13494" y="8880"/>
                </a:cubicBezTo>
                <a:cubicBezTo>
                  <a:pt x="13538" y="8902"/>
                  <a:pt x="13533" y="8930"/>
                  <a:pt x="13593" y="8930"/>
                </a:cubicBezTo>
                <a:cubicBezTo>
                  <a:pt x="13725" y="8930"/>
                  <a:pt x="13858" y="8930"/>
                  <a:pt x="13990" y="8930"/>
                </a:cubicBezTo>
              </a:path>
              <a:path w="8683" h="1341">
                <a:moveTo>
                  <a:pt x="14288" y="8235"/>
                </a:moveTo>
                <a:cubicBezTo>
                  <a:pt x="14288" y="8318"/>
                  <a:pt x="14256" y="8295"/>
                  <a:pt x="14238" y="8359"/>
                </a:cubicBezTo>
                <a:cubicBezTo>
                  <a:pt x="14232" y="8379"/>
                  <a:pt x="14191" y="8452"/>
                  <a:pt x="14213" y="8483"/>
                </a:cubicBezTo>
                <a:cubicBezTo>
                  <a:pt x="14226" y="8501"/>
                  <a:pt x="14253" y="8508"/>
                  <a:pt x="14288" y="8508"/>
                </a:cubicBezTo>
                <a:cubicBezTo>
                  <a:pt x="14327" y="8508"/>
                  <a:pt x="14384" y="8602"/>
                  <a:pt x="14436" y="8558"/>
                </a:cubicBezTo>
                <a:cubicBezTo>
                  <a:pt x="14479" y="8522"/>
                  <a:pt x="14480" y="8502"/>
                  <a:pt x="14536" y="8483"/>
                </a:cubicBezTo>
                <a:cubicBezTo>
                  <a:pt x="14577" y="8469"/>
                  <a:pt x="14576" y="8452"/>
                  <a:pt x="14585" y="8409"/>
                </a:cubicBezTo>
              </a:path>
              <a:path w="8683" h="1341">
                <a:moveTo>
                  <a:pt x="14560" y="8111"/>
                </a:moveTo>
                <a:cubicBezTo>
                  <a:pt x="14560" y="8166"/>
                  <a:pt x="14539" y="8205"/>
                  <a:pt x="14536" y="8260"/>
                </a:cubicBezTo>
                <a:cubicBezTo>
                  <a:pt x="14527" y="8434"/>
                  <a:pt x="14531" y="8612"/>
                  <a:pt x="14560" y="8781"/>
                </a:cubicBezTo>
                <a:cubicBezTo>
                  <a:pt x="14568" y="8831"/>
                  <a:pt x="14563" y="8887"/>
                  <a:pt x="14585" y="8930"/>
                </a:cubicBezTo>
                <a:cubicBezTo>
                  <a:pt x="14593" y="8938"/>
                  <a:pt x="14602" y="8946"/>
                  <a:pt x="14610" y="8954"/>
                </a:cubicBezTo>
              </a:path>
              <a:path w="8683" h="1341">
                <a:moveTo>
                  <a:pt x="14883" y="8880"/>
                </a:moveTo>
                <a:cubicBezTo>
                  <a:pt x="14863" y="8952"/>
                  <a:pt x="14839" y="9010"/>
                  <a:pt x="14833" y="9079"/>
                </a:cubicBezTo>
                <a:cubicBezTo>
                  <a:pt x="14828" y="9141"/>
                  <a:pt x="14822" y="9153"/>
                  <a:pt x="14883" y="9153"/>
                </a:cubicBezTo>
              </a:path>
              <a:path w="8683" h="1341">
                <a:moveTo>
                  <a:pt x="15180" y="8334"/>
                </a:moveTo>
                <a:cubicBezTo>
                  <a:pt x="15245" y="8299"/>
                  <a:pt x="15314" y="8273"/>
                  <a:pt x="15379" y="8260"/>
                </a:cubicBezTo>
                <a:cubicBezTo>
                  <a:pt x="15415" y="8253"/>
                  <a:pt x="15510" y="8274"/>
                  <a:pt x="15528" y="8310"/>
                </a:cubicBezTo>
                <a:cubicBezTo>
                  <a:pt x="15542" y="8337"/>
                  <a:pt x="15554" y="8358"/>
                  <a:pt x="15528" y="8409"/>
                </a:cubicBezTo>
                <a:cubicBezTo>
                  <a:pt x="15502" y="8461"/>
                  <a:pt x="15465" y="8474"/>
                  <a:pt x="15429" y="8508"/>
                </a:cubicBezTo>
                <a:cubicBezTo>
                  <a:pt x="15390" y="8544"/>
                  <a:pt x="15339" y="8608"/>
                  <a:pt x="15304" y="8632"/>
                </a:cubicBezTo>
                <a:cubicBezTo>
                  <a:pt x="15274" y="8653"/>
                  <a:pt x="15317" y="8632"/>
                  <a:pt x="15354" y="8632"/>
                </a:cubicBezTo>
                <a:cubicBezTo>
                  <a:pt x="15413" y="8632"/>
                  <a:pt x="15409" y="8604"/>
                  <a:pt x="15453" y="8582"/>
                </a:cubicBezTo>
                <a:cubicBezTo>
                  <a:pt x="15497" y="8604"/>
                  <a:pt x="15494" y="8632"/>
                  <a:pt x="15553" y="8632"/>
                </a:cubicBezTo>
                <a:cubicBezTo>
                  <a:pt x="15598" y="8632"/>
                  <a:pt x="15624" y="8698"/>
                  <a:pt x="15627" y="8731"/>
                </a:cubicBezTo>
                <a:cubicBezTo>
                  <a:pt x="15635" y="8812"/>
                  <a:pt x="15631" y="8883"/>
                  <a:pt x="15602" y="8954"/>
                </a:cubicBezTo>
                <a:cubicBezTo>
                  <a:pt x="15586" y="8994"/>
                  <a:pt x="15543" y="9020"/>
                  <a:pt x="15503" y="9029"/>
                </a:cubicBezTo>
                <a:cubicBezTo>
                  <a:pt x="15441" y="9042"/>
                  <a:pt x="15430" y="9010"/>
                  <a:pt x="15379" y="9004"/>
                </a:cubicBezTo>
                <a:cubicBezTo>
                  <a:pt x="15324" y="8998"/>
                  <a:pt x="15309" y="8997"/>
                  <a:pt x="15304" y="8930"/>
                </a:cubicBezTo>
                <a:cubicBezTo>
                  <a:pt x="15304" y="8913"/>
                  <a:pt x="15304" y="8897"/>
                  <a:pt x="15304" y="8880"/>
                </a:cubicBezTo>
              </a:path>
              <a:path w="8683" h="1341">
                <a:moveTo>
                  <a:pt x="15801" y="7938"/>
                </a:moveTo>
                <a:cubicBezTo>
                  <a:pt x="15837" y="7966"/>
                  <a:pt x="15864" y="7976"/>
                  <a:pt x="15900" y="8012"/>
                </a:cubicBezTo>
                <a:cubicBezTo>
                  <a:pt x="15976" y="8088"/>
                  <a:pt x="16088" y="8124"/>
                  <a:pt x="16173" y="8186"/>
                </a:cubicBezTo>
                <a:cubicBezTo>
                  <a:pt x="16248" y="8241"/>
                  <a:pt x="16310" y="8270"/>
                  <a:pt x="16396" y="8310"/>
                </a:cubicBezTo>
                <a:cubicBezTo>
                  <a:pt x="16458" y="8339"/>
                  <a:pt x="16522" y="8386"/>
                  <a:pt x="16570" y="8409"/>
                </a:cubicBezTo>
                <a:cubicBezTo>
                  <a:pt x="16589" y="8418"/>
                  <a:pt x="16623" y="8404"/>
                  <a:pt x="16644" y="8409"/>
                </a:cubicBezTo>
                <a:cubicBezTo>
                  <a:pt x="16628" y="8429"/>
                  <a:pt x="16592" y="8461"/>
                  <a:pt x="16570" y="8483"/>
                </a:cubicBezTo>
                <a:cubicBezTo>
                  <a:pt x="16514" y="8539"/>
                  <a:pt x="16507" y="8567"/>
                  <a:pt x="16470" y="8632"/>
                </a:cubicBezTo>
                <a:cubicBezTo>
                  <a:pt x="16445" y="8675"/>
                  <a:pt x="16354" y="8724"/>
                  <a:pt x="16321" y="8781"/>
                </a:cubicBezTo>
                <a:cubicBezTo>
                  <a:pt x="16278" y="8854"/>
                  <a:pt x="16241" y="8871"/>
                  <a:pt x="16197" y="8930"/>
                </a:cubicBezTo>
                <a:cubicBezTo>
                  <a:pt x="16147" y="8997"/>
                  <a:pt x="16121" y="9014"/>
                  <a:pt x="16073" y="9079"/>
                </a:cubicBezTo>
                <a:cubicBezTo>
                  <a:pt x="16062" y="9093"/>
                  <a:pt x="16001" y="9204"/>
                  <a:pt x="16073" y="91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07080" y="2732040"/>
            <a:ext cx="1447920" cy="590760"/>
          </a:xfrm>
          <a:custGeom>
            <a:avLst/>
            <a:gdLst/>
            <a:ahLst/>
            <a:rect l="l" t="t" r="r" b="b"/>
            <a:pathLst>
              <a:path w="4020" h="1638">
                <a:moveTo>
                  <a:pt x="18852" y="7590"/>
                </a:moveTo>
                <a:cubicBezTo>
                  <a:pt x="18820" y="7616"/>
                  <a:pt x="18801" y="7616"/>
                  <a:pt x="18752" y="7665"/>
                </a:cubicBezTo>
                <a:cubicBezTo>
                  <a:pt x="18715" y="7702"/>
                  <a:pt x="18657" y="7723"/>
                  <a:pt x="18628" y="7764"/>
                </a:cubicBezTo>
                <a:cubicBezTo>
                  <a:pt x="18575" y="7838"/>
                  <a:pt x="18547" y="7907"/>
                  <a:pt x="18504" y="7987"/>
                </a:cubicBezTo>
                <a:cubicBezTo>
                  <a:pt x="18445" y="8099"/>
                  <a:pt x="18431" y="8163"/>
                  <a:pt x="18405" y="8285"/>
                </a:cubicBezTo>
                <a:cubicBezTo>
                  <a:pt x="18380" y="8399"/>
                  <a:pt x="18359" y="8515"/>
                  <a:pt x="18355" y="8632"/>
                </a:cubicBezTo>
                <a:cubicBezTo>
                  <a:pt x="18350" y="8755"/>
                  <a:pt x="18395" y="8880"/>
                  <a:pt x="18405" y="9004"/>
                </a:cubicBezTo>
                <a:cubicBezTo>
                  <a:pt x="18410" y="9065"/>
                  <a:pt x="18422" y="9096"/>
                  <a:pt x="18430" y="9153"/>
                </a:cubicBezTo>
                <a:cubicBezTo>
                  <a:pt x="18504" y="9131"/>
                  <a:pt x="18476" y="9188"/>
                  <a:pt x="18504" y="9103"/>
                </a:cubicBezTo>
              </a:path>
              <a:path w="4020" h="1638">
                <a:moveTo>
                  <a:pt x="18728" y="8632"/>
                </a:moveTo>
                <a:cubicBezTo>
                  <a:pt x="18728" y="8688"/>
                  <a:pt x="18738" y="8730"/>
                  <a:pt x="18752" y="8781"/>
                </a:cubicBezTo>
                <a:cubicBezTo>
                  <a:pt x="18766" y="8831"/>
                  <a:pt x="18821" y="8966"/>
                  <a:pt x="18852" y="9004"/>
                </a:cubicBezTo>
                <a:cubicBezTo>
                  <a:pt x="18871" y="9028"/>
                  <a:pt x="18927" y="9069"/>
                  <a:pt x="18951" y="9103"/>
                </a:cubicBezTo>
                <a:cubicBezTo>
                  <a:pt x="18993" y="9163"/>
                  <a:pt x="18981" y="9153"/>
                  <a:pt x="19050" y="9153"/>
                </a:cubicBezTo>
                <a:cubicBezTo>
                  <a:pt x="19058" y="9097"/>
                  <a:pt x="19090" y="9054"/>
                  <a:pt x="19100" y="9004"/>
                </a:cubicBezTo>
                <a:cubicBezTo>
                  <a:pt x="19112" y="8946"/>
                  <a:pt x="19125" y="8861"/>
                  <a:pt x="19149" y="8806"/>
                </a:cubicBezTo>
                <a:cubicBezTo>
                  <a:pt x="19177" y="8742"/>
                  <a:pt x="19233" y="8643"/>
                  <a:pt x="19273" y="8582"/>
                </a:cubicBezTo>
                <a:cubicBezTo>
                  <a:pt x="19309" y="8527"/>
                  <a:pt x="19303" y="8478"/>
                  <a:pt x="19323" y="8558"/>
                </a:cubicBezTo>
              </a:path>
              <a:path w="4020" h="1638">
                <a:moveTo>
                  <a:pt x="19794" y="8558"/>
                </a:moveTo>
                <a:cubicBezTo>
                  <a:pt x="19750" y="8612"/>
                  <a:pt x="19745" y="8638"/>
                  <a:pt x="19745" y="8706"/>
                </a:cubicBezTo>
                <a:cubicBezTo>
                  <a:pt x="19830" y="8706"/>
                  <a:pt x="19811" y="8717"/>
                  <a:pt x="19844" y="8657"/>
                </a:cubicBezTo>
                <a:cubicBezTo>
                  <a:pt x="19852" y="8649"/>
                  <a:pt x="19861" y="8640"/>
                  <a:pt x="19869" y="8632"/>
                </a:cubicBezTo>
                <a:cubicBezTo>
                  <a:pt x="19829" y="8632"/>
                  <a:pt x="19772" y="8614"/>
                  <a:pt x="19769" y="8657"/>
                </a:cubicBezTo>
                <a:cubicBezTo>
                  <a:pt x="19764" y="8719"/>
                  <a:pt x="19741" y="8706"/>
                  <a:pt x="19769" y="8706"/>
                </a:cubicBezTo>
              </a:path>
              <a:path w="4020" h="1638">
                <a:moveTo>
                  <a:pt x="20216" y="8632"/>
                </a:moveTo>
                <a:cubicBezTo>
                  <a:pt x="20194" y="8734"/>
                  <a:pt x="20153" y="8828"/>
                  <a:pt x="20141" y="8930"/>
                </a:cubicBezTo>
                <a:cubicBezTo>
                  <a:pt x="20130" y="9028"/>
                  <a:pt x="20170" y="9026"/>
                  <a:pt x="20191" y="9103"/>
                </a:cubicBezTo>
                <a:cubicBezTo>
                  <a:pt x="20210" y="9173"/>
                  <a:pt x="20207" y="9153"/>
                  <a:pt x="20290" y="9153"/>
                </a:cubicBezTo>
                <a:cubicBezTo>
                  <a:pt x="20357" y="9153"/>
                  <a:pt x="20356" y="9041"/>
                  <a:pt x="20389" y="9004"/>
                </a:cubicBezTo>
                <a:cubicBezTo>
                  <a:pt x="20403" y="8989"/>
                  <a:pt x="20449" y="8922"/>
                  <a:pt x="20464" y="8880"/>
                </a:cubicBezTo>
                <a:cubicBezTo>
                  <a:pt x="20475" y="8850"/>
                  <a:pt x="20487" y="8824"/>
                  <a:pt x="20513" y="8806"/>
                </a:cubicBezTo>
                <a:cubicBezTo>
                  <a:pt x="20513" y="8882"/>
                  <a:pt x="20520" y="8933"/>
                  <a:pt x="20538" y="9004"/>
                </a:cubicBezTo>
                <a:cubicBezTo>
                  <a:pt x="20555" y="9072"/>
                  <a:pt x="20583" y="9138"/>
                  <a:pt x="20662" y="9153"/>
                </a:cubicBezTo>
                <a:cubicBezTo>
                  <a:pt x="20770" y="9173"/>
                  <a:pt x="20752" y="9098"/>
                  <a:pt x="20786" y="9029"/>
                </a:cubicBezTo>
                <a:cubicBezTo>
                  <a:pt x="20808" y="8985"/>
                  <a:pt x="20830" y="8911"/>
                  <a:pt x="20811" y="8855"/>
                </a:cubicBezTo>
                <a:cubicBezTo>
                  <a:pt x="20790" y="8792"/>
                  <a:pt x="20776" y="8779"/>
                  <a:pt x="20737" y="8731"/>
                </a:cubicBezTo>
                <a:cubicBezTo>
                  <a:pt x="20694" y="8678"/>
                  <a:pt x="20671" y="8646"/>
                  <a:pt x="20662" y="8582"/>
                </a:cubicBezTo>
              </a:path>
              <a:path w="4020" h="1638">
                <a:moveTo>
                  <a:pt x="21010" y="7665"/>
                </a:moveTo>
                <a:cubicBezTo>
                  <a:pt x="21043" y="7759"/>
                  <a:pt x="21065" y="7794"/>
                  <a:pt x="21134" y="7863"/>
                </a:cubicBezTo>
                <a:cubicBezTo>
                  <a:pt x="21208" y="7937"/>
                  <a:pt x="21272" y="8025"/>
                  <a:pt x="21332" y="8111"/>
                </a:cubicBezTo>
                <a:cubicBezTo>
                  <a:pt x="21386" y="8188"/>
                  <a:pt x="21466" y="8315"/>
                  <a:pt x="21481" y="8409"/>
                </a:cubicBezTo>
                <a:cubicBezTo>
                  <a:pt x="21499" y="8520"/>
                  <a:pt x="21471" y="8678"/>
                  <a:pt x="21431" y="8781"/>
                </a:cubicBezTo>
                <a:cubicBezTo>
                  <a:pt x="21403" y="8853"/>
                  <a:pt x="21350" y="8934"/>
                  <a:pt x="21307" y="9004"/>
                </a:cubicBezTo>
                <a:cubicBezTo>
                  <a:pt x="21278" y="9051"/>
                  <a:pt x="21184" y="9202"/>
                  <a:pt x="21134" y="9227"/>
                </a:cubicBezTo>
                <a:cubicBezTo>
                  <a:pt x="21112" y="9238"/>
                  <a:pt x="21127" y="9209"/>
                  <a:pt x="21109" y="9227"/>
                </a:cubicBezTo>
              </a:path>
              <a:path w="4020" h="1638">
                <a:moveTo>
                  <a:pt x="21679" y="8706"/>
                </a:moveTo>
                <a:cubicBezTo>
                  <a:pt x="21711" y="8760"/>
                  <a:pt x="21681" y="8801"/>
                  <a:pt x="21704" y="8855"/>
                </a:cubicBezTo>
                <a:cubicBezTo>
                  <a:pt x="21733" y="8923"/>
                  <a:pt x="21751" y="9010"/>
                  <a:pt x="21779" y="9079"/>
                </a:cubicBezTo>
                <a:cubicBezTo>
                  <a:pt x="21804" y="9140"/>
                  <a:pt x="21843" y="9160"/>
                  <a:pt x="21853" y="9227"/>
                </a:cubicBezTo>
                <a:cubicBezTo>
                  <a:pt x="21915" y="9227"/>
                  <a:pt x="21921" y="9246"/>
                  <a:pt x="21927" y="9178"/>
                </a:cubicBezTo>
                <a:cubicBezTo>
                  <a:pt x="21930" y="9149"/>
                  <a:pt x="21964" y="9124"/>
                  <a:pt x="21977" y="9079"/>
                </a:cubicBezTo>
                <a:cubicBezTo>
                  <a:pt x="22001" y="9000"/>
                  <a:pt x="22031" y="8930"/>
                  <a:pt x="22101" y="8880"/>
                </a:cubicBezTo>
                <a:cubicBezTo>
                  <a:pt x="22166" y="8834"/>
                  <a:pt x="22188" y="8768"/>
                  <a:pt x="22250" y="8706"/>
                </a:cubicBezTo>
                <a:cubicBezTo>
                  <a:pt x="22299" y="8657"/>
                  <a:pt x="22304" y="8564"/>
                  <a:pt x="22374" y="8558"/>
                </a:cubicBezTo>
                <a:cubicBezTo>
                  <a:pt x="22374" y="8566"/>
                  <a:pt x="22374" y="8574"/>
                  <a:pt x="22374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7840" y="3402000"/>
            <a:ext cx="2241360" cy="465120"/>
          </a:xfrm>
          <a:custGeom>
            <a:avLst/>
            <a:gdLst/>
            <a:ahLst/>
            <a:rect l="l" t="t" r="r" b="b"/>
            <a:pathLst>
              <a:path w="6227" h="1290">
                <a:moveTo>
                  <a:pt x="7119" y="9525"/>
                </a:moveTo>
                <a:cubicBezTo>
                  <a:pt x="7119" y="9586"/>
                  <a:pt x="7102" y="9619"/>
                  <a:pt x="7094" y="9674"/>
                </a:cubicBezTo>
                <a:cubicBezTo>
                  <a:pt x="7086" y="9732"/>
                  <a:pt x="7056" y="9855"/>
                  <a:pt x="7020" y="9897"/>
                </a:cubicBezTo>
                <a:cubicBezTo>
                  <a:pt x="7001" y="9918"/>
                  <a:pt x="6973" y="9955"/>
                  <a:pt x="7045" y="9971"/>
                </a:cubicBezTo>
                <a:cubicBezTo>
                  <a:pt x="7115" y="9987"/>
                  <a:pt x="7205" y="9983"/>
                  <a:pt x="7268" y="9996"/>
                </a:cubicBezTo>
                <a:cubicBezTo>
                  <a:pt x="7349" y="10012"/>
                  <a:pt x="7372" y="10034"/>
                  <a:pt x="7441" y="10046"/>
                </a:cubicBezTo>
                <a:cubicBezTo>
                  <a:pt x="7481" y="10046"/>
                  <a:pt x="7500" y="10035"/>
                  <a:pt x="7516" y="9996"/>
                </a:cubicBezTo>
              </a:path>
              <a:path w="6227" h="1290">
                <a:moveTo>
                  <a:pt x="7565" y="9451"/>
                </a:moveTo>
                <a:cubicBezTo>
                  <a:pt x="7565" y="9515"/>
                  <a:pt x="7551" y="9572"/>
                  <a:pt x="7541" y="9624"/>
                </a:cubicBezTo>
                <a:cubicBezTo>
                  <a:pt x="7520" y="9731"/>
                  <a:pt x="7528" y="9863"/>
                  <a:pt x="7516" y="9971"/>
                </a:cubicBezTo>
                <a:cubicBezTo>
                  <a:pt x="7495" y="10161"/>
                  <a:pt x="7516" y="10418"/>
                  <a:pt x="7541" y="10567"/>
                </a:cubicBezTo>
                <a:cubicBezTo>
                  <a:pt x="7541" y="10633"/>
                  <a:pt x="7541" y="10666"/>
                  <a:pt x="7541" y="10592"/>
                </a:cubicBezTo>
              </a:path>
              <a:path w="6227" h="1290">
                <a:moveTo>
                  <a:pt x="7987" y="10120"/>
                </a:moveTo>
                <a:cubicBezTo>
                  <a:pt x="7939" y="10144"/>
                  <a:pt x="7923" y="10151"/>
                  <a:pt x="7938" y="10195"/>
                </a:cubicBezTo>
                <a:cubicBezTo>
                  <a:pt x="7965" y="10195"/>
                  <a:pt x="8058" y="10213"/>
                  <a:pt x="8012" y="10145"/>
                </a:cubicBezTo>
                <a:cubicBezTo>
                  <a:pt x="8004" y="10145"/>
                  <a:pt x="7995" y="10145"/>
                  <a:pt x="7987" y="10145"/>
                </a:cubicBezTo>
              </a:path>
              <a:path w="6227" h="1290">
                <a:moveTo>
                  <a:pt x="8235" y="9922"/>
                </a:moveTo>
                <a:cubicBezTo>
                  <a:pt x="8331" y="9993"/>
                  <a:pt x="8351" y="9980"/>
                  <a:pt x="8458" y="9922"/>
                </a:cubicBezTo>
              </a:path>
              <a:path w="6227" h="1290">
                <a:moveTo>
                  <a:pt x="8706" y="9699"/>
                </a:moveTo>
                <a:cubicBezTo>
                  <a:pt x="8777" y="9664"/>
                  <a:pt x="8794" y="9646"/>
                  <a:pt x="8855" y="9624"/>
                </a:cubicBezTo>
                <a:cubicBezTo>
                  <a:pt x="8889" y="9612"/>
                  <a:pt x="8963" y="9576"/>
                  <a:pt x="9004" y="9599"/>
                </a:cubicBezTo>
                <a:cubicBezTo>
                  <a:pt x="9034" y="9616"/>
                  <a:pt x="9078" y="9680"/>
                  <a:pt x="9079" y="9699"/>
                </a:cubicBezTo>
                <a:cubicBezTo>
                  <a:pt x="9085" y="9775"/>
                  <a:pt x="9054" y="9781"/>
                  <a:pt x="9029" y="9823"/>
                </a:cubicBezTo>
                <a:cubicBezTo>
                  <a:pt x="9003" y="9866"/>
                  <a:pt x="8988" y="9926"/>
                  <a:pt x="8954" y="9971"/>
                </a:cubicBezTo>
                <a:cubicBezTo>
                  <a:pt x="8919" y="10019"/>
                  <a:pt x="8891" y="10073"/>
                  <a:pt x="8855" y="10120"/>
                </a:cubicBezTo>
                <a:cubicBezTo>
                  <a:pt x="8813" y="10175"/>
                  <a:pt x="8768" y="10233"/>
                  <a:pt x="8731" y="10294"/>
                </a:cubicBezTo>
                <a:cubicBezTo>
                  <a:pt x="8707" y="10333"/>
                  <a:pt x="8643" y="10403"/>
                  <a:pt x="8632" y="10443"/>
                </a:cubicBezTo>
                <a:cubicBezTo>
                  <a:pt x="8615" y="10508"/>
                  <a:pt x="8617" y="10533"/>
                  <a:pt x="8632" y="10567"/>
                </a:cubicBezTo>
                <a:cubicBezTo>
                  <a:pt x="8647" y="10603"/>
                  <a:pt x="8659" y="10592"/>
                  <a:pt x="8706" y="10592"/>
                </a:cubicBezTo>
                <a:cubicBezTo>
                  <a:pt x="8782" y="10592"/>
                  <a:pt x="8776" y="10633"/>
                  <a:pt x="8830" y="10641"/>
                </a:cubicBezTo>
                <a:cubicBezTo>
                  <a:pt x="8928" y="10655"/>
                  <a:pt x="9019" y="10643"/>
                  <a:pt x="9103" y="10592"/>
                </a:cubicBezTo>
                <a:cubicBezTo>
                  <a:pt x="9111" y="10584"/>
                  <a:pt x="9120" y="10575"/>
                  <a:pt x="9128" y="10567"/>
                </a:cubicBezTo>
              </a:path>
              <a:path w="6227" h="1290">
                <a:moveTo>
                  <a:pt x="9475" y="9897"/>
                </a:moveTo>
                <a:cubicBezTo>
                  <a:pt x="9475" y="9979"/>
                  <a:pt x="9444" y="10003"/>
                  <a:pt x="9401" y="10071"/>
                </a:cubicBezTo>
                <a:cubicBezTo>
                  <a:pt x="9364" y="10129"/>
                  <a:pt x="9351" y="10151"/>
                  <a:pt x="9351" y="10220"/>
                </a:cubicBezTo>
                <a:cubicBezTo>
                  <a:pt x="9351" y="10236"/>
                  <a:pt x="9351" y="10253"/>
                  <a:pt x="9351" y="10269"/>
                </a:cubicBezTo>
                <a:cubicBezTo>
                  <a:pt x="9397" y="10269"/>
                  <a:pt x="9410" y="10289"/>
                  <a:pt x="9451" y="10294"/>
                </a:cubicBezTo>
                <a:cubicBezTo>
                  <a:pt x="9553" y="10306"/>
                  <a:pt x="9589" y="10280"/>
                  <a:pt x="9674" y="10344"/>
                </a:cubicBezTo>
                <a:cubicBezTo>
                  <a:pt x="9717" y="10293"/>
                  <a:pt x="9751" y="10287"/>
                  <a:pt x="9823" y="10269"/>
                </a:cubicBezTo>
                <a:cubicBezTo>
                  <a:pt x="9831" y="10269"/>
                  <a:pt x="9839" y="10269"/>
                  <a:pt x="9847" y="10269"/>
                </a:cubicBezTo>
              </a:path>
              <a:path w="6227" h="1290">
                <a:moveTo>
                  <a:pt x="9798" y="9674"/>
                </a:moveTo>
                <a:cubicBezTo>
                  <a:pt x="9778" y="9752"/>
                  <a:pt x="9758" y="9853"/>
                  <a:pt x="9748" y="9922"/>
                </a:cubicBezTo>
                <a:cubicBezTo>
                  <a:pt x="9723" y="10097"/>
                  <a:pt x="9768" y="10699"/>
                  <a:pt x="9773" y="10691"/>
                </a:cubicBezTo>
              </a:path>
              <a:path w="6227" h="1290">
                <a:moveTo>
                  <a:pt x="10443" y="9897"/>
                </a:moveTo>
                <a:cubicBezTo>
                  <a:pt x="10443" y="9985"/>
                  <a:pt x="10423" y="10061"/>
                  <a:pt x="10418" y="10145"/>
                </a:cubicBezTo>
                <a:cubicBezTo>
                  <a:pt x="10413" y="10220"/>
                  <a:pt x="10429" y="10271"/>
                  <a:pt x="10443" y="10344"/>
                </a:cubicBezTo>
                <a:cubicBezTo>
                  <a:pt x="10453" y="10398"/>
                  <a:pt x="10455" y="10439"/>
                  <a:pt x="10468" y="10492"/>
                </a:cubicBezTo>
                <a:cubicBezTo>
                  <a:pt x="10468" y="10525"/>
                  <a:pt x="10468" y="10542"/>
                  <a:pt x="10468" y="10567"/>
                </a:cubicBezTo>
                <a:cubicBezTo>
                  <a:pt x="10468" y="10511"/>
                  <a:pt x="10483" y="10505"/>
                  <a:pt x="10443" y="10492"/>
                </a:cubicBezTo>
              </a:path>
              <a:path w="6227" h="1290">
                <a:moveTo>
                  <a:pt x="10195" y="10195"/>
                </a:moveTo>
                <a:cubicBezTo>
                  <a:pt x="10393" y="10195"/>
                  <a:pt x="10592" y="10195"/>
                  <a:pt x="10790" y="10195"/>
                </a:cubicBezTo>
              </a:path>
              <a:path w="6227" h="1290">
                <a:moveTo>
                  <a:pt x="11038" y="10046"/>
                </a:moveTo>
                <a:cubicBezTo>
                  <a:pt x="11146" y="10046"/>
                  <a:pt x="11253" y="10046"/>
                  <a:pt x="11361" y="10046"/>
                </a:cubicBezTo>
              </a:path>
              <a:path w="6227" h="1290">
                <a:moveTo>
                  <a:pt x="11807" y="9624"/>
                </a:moveTo>
                <a:cubicBezTo>
                  <a:pt x="11807" y="9684"/>
                  <a:pt x="11792" y="9725"/>
                  <a:pt x="11782" y="9773"/>
                </a:cubicBezTo>
                <a:cubicBezTo>
                  <a:pt x="11768" y="9843"/>
                  <a:pt x="11727" y="9894"/>
                  <a:pt x="11708" y="9971"/>
                </a:cubicBezTo>
                <a:cubicBezTo>
                  <a:pt x="11694" y="10027"/>
                  <a:pt x="11667" y="10097"/>
                  <a:pt x="11658" y="10145"/>
                </a:cubicBezTo>
                <a:cubicBezTo>
                  <a:pt x="11644" y="10221"/>
                  <a:pt x="11666" y="10277"/>
                  <a:pt x="11683" y="10344"/>
                </a:cubicBezTo>
                <a:cubicBezTo>
                  <a:pt x="11690" y="10373"/>
                  <a:pt x="11726" y="10476"/>
                  <a:pt x="11757" y="10492"/>
                </a:cubicBezTo>
                <a:cubicBezTo>
                  <a:pt x="11810" y="10518"/>
                  <a:pt x="11875" y="10541"/>
                  <a:pt x="11931" y="10567"/>
                </a:cubicBezTo>
                <a:cubicBezTo>
                  <a:pt x="11939" y="10567"/>
                  <a:pt x="11948" y="10567"/>
                  <a:pt x="11956" y="10567"/>
                </a:cubicBezTo>
                <a:cubicBezTo>
                  <a:pt x="11985" y="10542"/>
                  <a:pt x="12087" y="10511"/>
                  <a:pt x="12105" y="10492"/>
                </a:cubicBezTo>
                <a:cubicBezTo>
                  <a:pt x="12170" y="10421"/>
                  <a:pt x="12179" y="10396"/>
                  <a:pt x="12179" y="10294"/>
                </a:cubicBezTo>
                <a:cubicBezTo>
                  <a:pt x="12179" y="10286"/>
                  <a:pt x="12179" y="10277"/>
                  <a:pt x="12179" y="10269"/>
                </a:cubicBezTo>
                <a:cubicBezTo>
                  <a:pt x="12127" y="10269"/>
                  <a:pt x="12037" y="10247"/>
                  <a:pt x="12005" y="10294"/>
                </a:cubicBezTo>
                <a:cubicBezTo>
                  <a:pt x="11967" y="10350"/>
                  <a:pt x="11956" y="10377"/>
                  <a:pt x="11956" y="10443"/>
                </a:cubicBezTo>
                <a:cubicBezTo>
                  <a:pt x="11956" y="10487"/>
                  <a:pt x="11968" y="10512"/>
                  <a:pt x="12005" y="10517"/>
                </a:cubicBezTo>
                <a:cubicBezTo>
                  <a:pt x="12013" y="10517"/>
                  <a:pt x="12022" y="10517"/>
                  <a:pt x="12030" y="10517"/>
                </a:cubicBezTo>
              </a:path>
              <a:path w="6227" h="1290">
                <a:moveTo>
                  <a:pt x="12427" y="10046"/>
                </a:moveTo>
                <a:cubicBezTo>
                  <a:pt x="12427" y="10094"/>
                  <a:pt x="12444" y="10071"/>
                  <a:pt x="12452" y="10046"/>
                </a:cubicBezTo>
              </a:path>
              <a:path w="6227" h="1290">
                <a:moveTo>
                  <a:pt x="12650" y="9674"/>
                </a:moveTo>
                <a:cubicBezTo>
                  <a:pt x="12706" y="9626"/>
                  <a:pt x="12727" y="9603"/>
                  <a:pt x="12799" y="9599"/>
                </a:cubicBezTo>
                <a:cubicBezTo>
                  <a:pt x="12837" y="9597"/>
                  <a:pt x="13007" y="9575"/>
                  <a:pt x="13022" y="9624"/>
                </a:cubicBezTo>
                <a:cubicBezTo>
                  <a:pt x="13038" y="9678"/>
                  <a:pt x="13063" y="9686"/>
                  <a:pt x="13022" y="9748"/>
                </a:cubicBezTo>
                <a:cubicBezTo>
                  <a:pt x="12990" y="9797"/>
                  <a:pt x="12988" y="9844"/>
                  <a:pt x="12948" y="9897"/>
                </a:cubicBezTo>
                <a:cubicBezTo>
                  <a:pt x="12916" y="9939"/>
                  <a:pt x="12873" y="9959"/>
                  <a:pt x="12849" y="9996"/>
                </a:cubicBezTo>
                <a:cubicBezTo>
                  <a:pt x="12806" y="10061"/>
                  <a:pt x="12799" y="10038"/>
                  <a:pt x="12799" y="10120"/>
                </a:cubicBezTo>
                <a:cubicBezTo>
                  <a:pt x="12869" y="10120"/>
                  <a:pt x="12864" y="10125"/>
                  <a:pt x="12923" y="10071"/>
                </a:cubicBezTo>
                <a:cubicBezTo>
                  <a:pt x="12958" y="10039"/>
                  <a:pt x="12976" y="10046"/>
                  <a:pt x="13022" y="10046"/>
                </a:cubicBezTo>
                <a:cubicBezTo>
                  <a:pt x="13092" y="10046"/>
                  <a:pt x="13081" y="10065"/>
                  <a:pt x="13122" y="10120"/>
                </a:cubicBezTo>
                <a:cubicBezTo>
                  <a:pt x="13164" y="10176"/>
                  <a:pt x="13179" y="10207"/>
                  <a:pt x="13196" y="10269"/>
                </a:cubicBezTo>
                <a:cubicBezTo>
                  <a:pt x="13218" y="10351"/>
                  <a:pt x="13242" y="10411"/>
                  <a:pt x="13196" y="10492"/>
                </a:cubicBezTo>
                <a:cubicBezTo>
                  <a:pt x="13165" y="10545"/>
                  <a:pt x="13153" y="10547"/>
                  <a:pt x="13122" y="10592"/>
                </a:cubicBezTo>
                <a:cubicBezTo>
                  <a:pt x="13078" y="10655"/>
                  <a:pt x="13078" y="10641"/>
                  <a:pt x="12998" y="10641"/>
                </a:cubicBezTo>
                <a:cubicBezTo>
                  <a:pt x="12882" y="10641"/>
                  <a:pt x="12766" y="10641"/>
                  <a:pt x="12650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43800" y="3589200"/>
            <a:ext cx="635040" cy="420840"/>
          </a:xfrm>
          <a:custGeom>
            <a:avLst/>
            <a:gdLst/>
            <a:ahLst/>
            <a:rect l="l" t="t" r="r" b="b"/>
            <a:pathLst>
              <a:path w="1762" h="1167">
                <a:moveTo>
                  <a:pt x="18455" y="10443"/>
                </a:moveTo>
                <a:cubicBezTo>
                  <a:pt x="18500" y="10427"/>
                  <a:pt x="18478" y="10418"/>
                  <a:pt x="18554" y="10418"/>
                </a:cubicBezTo>
                <a:cubicBezTo>
                  <a:pt x="18659" y="10418"/>
                  <a:pt x="18718" y="10389"/>
                  <a:pt x="18802" y="10368"/>
                </a:cubicBezTo>
                <a:cubicBezTo>
                  <a:pt x="18863" y="10353"/>
                  <a:pt x="18963" y="10347"/>
                  <a:pt x="19025" y="10344"/>
                </a:cubicBezTo>
                <a:cubicBezTo>
                  <a:pt x="19067" y="10344"/>
                  <a:pt x="19075" y="10344"/>
                  <a:pt x="19100" y="10344"/>
                </a:cubicBezTo>
              </a:path>
              <a:path w="1762" h="1167">
                <a:moveTo>
                  <a:pt x="19521" y="9971"/>
                </a:moveTo>
                <a:cubicBezTo>
                  <a:pt x="19521" y="10101"/>
                  <a:pt x="19532" y="10218"/>
                  <a:pt x="19546" y="10344"/>
                </a:cubicBezTo>
                <a:cubicBezTo>
                  <a:pt x="19561" y="10478"/>
                  <a:pt x="19537" y="10610"/>
                  <a:pt x="19521" y="10740"/>
                </a:cubicBezTo>
                <a:cubicBezTo>
                  <a:pt x="19512" y="10814"/>
                  <a:pt x="19518" y="10893"/>
                  <a:pt x="19496" y="10964"/>
                </a:cubicBezTo>
                <a:cubicBezTo>
                  <a:pt x="19486" y="10996"/>
                  <a:pt x="19473" y="11085"/>
                  <a:pt x="19496" y="11013"/>
                </a:cubicBezTo>
              </a:path>
              <a:path w="1762" h="1167">
                <a:moveTo>
                  <a:pt x="20141" y="10220"/>
                </a:moveTo>
                <a:cubicBezTo>
                  <a:pt x="20154" y="10177"/>
                  <a:pt x="20187" y="10085"/>
                  <a:pt x="20141" y="10046"/>
                </a:cubicBezTo>
                <a:cubicBezTo>
                  <a:pt x="20116" y="10025"/>
                  <a:pt x="20091" y="10012"/>
                  <a:pt x="20067" y="9996"/>
                </a:cubicBezTo>
                <a:cubicBezTo>
                  <a:pt x="20007" y="10020"/>
                  <a:pt x="19974" y="10060"/>
                  <a:pt x="19943" y="10120"/>
                </a:cubicBezTo>
                <a:cubicBezTo>
                  <a:pt x="19891" y="10220"/>
                  <a:pt x="19851" y="10309"/>
                  <a:pt x="19844" y="10418"/>
                </a:cubicBezTo>
                <a:cubicBezTo>
                  <a:pt x="19839" y="10502"/>
                  <a:pt x="19864" y="10555"/>
                  <a:pt x="19943" y="10592"/>
                </a:cubicBezTo>
                <a:cubicBezTo>
                  <a:pt x="19982" y="10610"/>
                  <a:pt x="20009" y="10571"/>
                  <a:pt x="20042" y="10567"/>
                </a:cubicBezTo>
                <a:cubicBezTo>
                  <a:pt x="20078" y="10563"/>
                  <a:pt x="20095" y="10412"/>
                  <a:pt x="20117" y="10368"/>
                </a:cubicBezTo>
                <a:cubicBezTo>
                  <a:pt x="20139" y="10323"/>
                  <a:pt x="20156" y="10243"/>
                  <a:pt x="20166" y="10195"/>
                </a:cubicBezTo>
                <a:cubicBezTo>
                  <a:pt x="20166" y="10153"/>
                  <a:pt x="20166" y="10145"/>
                  <a:pt x="20166" y="10120"/>
                </a:cubicBezTo>
                <a:cubicBezTo>
                  <a:pt x="20205" y="10185"/>
                  <a:pt x="20191" y="10264"/>
                  <a:pt x="20191" y="10344"/>
                </a:cubicBezTo>
                <a:cubicBezTo>
                  <a:pt x="20191" y="10431"/>
                  <a:pt x="20213" y="10509"/>
                  <a:pt x="20216" y="10592"/>
                </a:cubicBezTo>
                <a:cubicBezTo>
                  <a:pt x="20221" y="10710"/>
                  <a:pt x="20181" y="10823"/>
                  <a:pt x="20166" y="10939"/>
                </a:cubicBezTo>
                <a:cubicBezTo>
                  <a:pt x="20159" y="10991"/>
                  <a:pt x="20146" y="11038"/>
                  <a:pt x="20141" y="11088"/>
                </a:cubicBezTo>
                <a:cubicBezTo>
                  <a:pt x="20135" y="11147"/>
                  <a:pt x="20130" y="11124"/>
                  <a:pt x="20166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73960" y="3411360"/>
            <a:ext cx="1233360" cy="589320"/>
          </a:xfrm>
          <a:custGeom>
            <a:avLst/>
            <a:gdLst/>
            <a:ahLst/>
            <a:rect l="l" t="t" r="r" b="b"/>
            <a:pathLst>
              <a:path w="3424" h="1638">
                <a:moveTo>
                  <a:pt x="21233" y="9748"/>
                </a:moveTo>
                <a:cubicBezTo>
                  <a:pt x="21199" y="9756"/>
                  <a:pt x="21144" y="9805"/>
                  <a:pt x="21134" y="9823"/>
                </a:cubicBezTo>
                <a:cubicBezTo>
                  <a:pt x="21086" y="9912"/>
                  <a:pt x="21017" y="9921"/>
                  <a:pt x="20960" y="9996"/>
                </a:cubicBezTo>
                <a:cubicBezTo>
                  <a:pt x="20936" y="10027"/>
                  <a:pt x="20800" y="10170"/>
                  <a:pt x="20786" y="10220"/>
                </a:cubicBezTo>
                <a:cubicBezTo>
                  <a:pt x="20774" y="10264"/>
                  <a:pt x="20752" y="10319"/>
                  <a:pt x="20762" y="10368"/>
                </a:cubicBezTo>
                <a:cubicBezTo>
                  <a:pt x="20764" y="10379"/>
                  <a:pt x="20850" y="10487"/>
                  <a:pt x="20861" y="10492"/>
                </a:cubicBezTo>
                <a:cubicBezTo>
                  <a:pt x="20911" y="10517"/>
                  <a:pt x="21021" y="10532"/>
                  <a:pt x="21059" y="10567"/>
                </a:cubicBezTo>
                <a:cubicBezTo>
                  <a:pt x="21128" y="10632"/>
                  <a:pt x="21164" y="10666"/>
                  <a:pt x="21233" y="10740"/>
                </a:cubicBezTo>
                <a:cubicBezTo>
                  <a:pt x="21268" y="10778"/>
                  <a:pt x="21378" y="10817"/>
                  <a:pt x="21332" y="10840"/>
                </a:cubicBezTo>
                <a:cubicBezTo>
                  <a:pt x="21295" y="10858"/>
                  <a:pt x="21325" y="10835"/>
                  <a:pt x="21332" y="10815"/>
                </a:cubicBezTo>
              </a:path>
              <a:path w="3424" h="1638">
                <a:moveTo>
                  <a:pt x="21530" y="9971"/>
                </a:moveTo>
                <a:cubicBezTo>
                  <a:pt x="21663" y="9947"/>
                  <a:pt x="21620" y="9917"/>
                  <a:pt x="21729" y="9971"/>
                </a:cubicBezTo>
                <a:cubicBezTo>
                  <a:pt x="21799" y="10006"/>
                  <a:pt x="21813" y="9948"/>
                  <a:pt x="21853" y="10046"/>
                </a:cubicBezTo>
                <a:cubicBezTo>
                  <a:pt x="21887" y="10128"/>
                  <a:pt x="21861" y="10213"/>
                  <a:pt x="21828" y="10294"/>
                </a:cubicBezTo>
                <a:cubicBezTo>
                  <a:pt x="21795" y="10377"/>
                  <a:pt x="21766" y="10451"/>
                  <a:pt x="21704" y="10517"/>
                </a:cubicBezTo>
                <a:cubicBezTo>
                  <a:pt x="21647" y="10578"/>
                  <a:pt x="21638" y="10654"/>
                  <a:pt x="21630" y="10740"/>
                </a:cubicBezTo>
                <a:cubicBezTo>
                  <a:pt x="21630" y="10765"/>
                  <a:pt x="21630" y="10773"/>
                  <a:pt x="21630" y="10790"/>
                </a:cubicBezTo>
                <a:cubicBezTo>
                  <a:pt x="21734" y="10790"/>
                  <a:pt x="21837" y="10795"/>
                  <a:pt x="21927" y="10765"/>
                </a:cubicBezTo>
                <a:cubicBezTo>
                  <a:pt x="21983" y="10746"/>
                  <a:pt x="21962" y="10768"/>
                  <a:pt x="22002" y="10716"/>
                </a:cubicBezTo>
              </a:path>
              <a:path w="3424" h="1638">
                <a:moveTo>
                  <a:pt x="22175" y="10716"/>
                </a:moveTo>
                <a:cubicBezTo>
                  <a:pt x="22175" y="10824"/>
                  <a:pt x="22156" y="10912"/>
                  <a:pt x="22151" y="11013"/>
                </a:cubicBezTo>
                <a:cubicBezTo>
                  <a:pt x="22149" y="11057"/>
                  <a:pt x="22091" y="11161"/>
                  <a:pt x="22151" y="11063"/>
                </a:cubicBezTo>
              </a:path>
              <a:path w="3424" h="1638">
                <a:moveTo>
                  <a:pt x="22523" y="10294"/>
                </a:moveTo>
                <a:cubicBezTo>
                  <a:pt x="22631" y="10294"/>
                  <a:pt x="22747" y="10312"/>
                  <a:pt x="22845" y="10269"/>
                </a:cubicBezTo>
              </a:path>
              <a:path w="3424" h="1638">
                <a:moveTo>
                  <a:pt x="23093" y="9847"/>
                </a:moveTo>
                <a:cubicBezTo>
                  <a:pt x="23159" y="9823"/>
                  <a:pt x="23208" y="9797"/>
                  <a:pt x="23267" y="9773"/>
                </a:cubicBezTo>
                <a:cubicBezTo>
                  <a:pt x="23335" y="9832"/>
                  <a:pt x="23396" y="9802"/>
                  <a:pt x="23416" y="9897"/>
                </a:cubicBezTo>
                <a:cubicBezTo>
                  <a:pt x="23438" y="10003"/>
                  <a:pt x="23382" y="10013"/>
                  <a:pt x="23341" y="10071"/>
                </a:cubicBezTo>
                <a:cubicBezTo>
                  <a:pt x="23315" y="10108"/>
                  <a:pt x="23258" y="10163"/>
                  <a:pt x="23217" y="10195"/>
                </a:cubicBezTo>
                <a:cubicBezTo>
                  <a:pt x="23199" y="10209"/>
                  <a:pt x="23168" y="10201"/>
                  <a:pt x="23143" y="10220"/>
                </a:cubicBezTo>
                <a:cubicBezTo>
                  <a:pt x="23151" y="10265"/>
                  <a:pt x="23165" y="10283"/>
                  <a:pt x="23217" y="10294"/>
                </a:cubicBezTo>
                <a:cubicBezTo>
                  <a:pt x="23325" y="10317"/>
                  <a:pt x="23306" y="10373"/>
                  <a:pt x="23391" y="10418"/>
                </a:cubicBezTo>
                <a:cubicBezTo>
                  <a:pt x="23453" y="10451"/>
                  <a:pt x="23483" y="10483"/>
                  <a:pt x="23490" y="10567"/>
                </a:cubicBezTo>
                <a:cubicBezTo>
                  <a:pt x="23496" y="10640"/>
                  <a:pt x="23474" y="10691"/>
                  <a:pt x="23416" y="10740"/>
                </a:cubicBezTo>
                <a:cubicBezTo>
                  <a:pt x="23314" y="10825"/>
                  <a:pt x="23276" y="10805"/>
                  <a:pt x="23168" y="10840"/>
                </a:cubicBezTo>
                <a:cubicBezTo>
                  <a:pt x="23124" y="10861"/>
                  <a:pt x="23113" y="10874"/>
                  <a:pt x="23093" y="10840"/>
                </a:cubicBezTo>
                <a:cubicBezTo>
                  <a:pt x="23074" y="10763"/>
                  <a:pt x="23088" y="10720"/>
                  <a:pt x="23118" y="10641"/>
                </a:cubicBezTo>
              </a:path>
              <a:path w="3424" h="1638">
                <a:moveTo>
                  <a:pt x="23589" y="9475"/>
                </a:moveTo>
                <a:cubicBezTo>
                  <a:pt x="23664" y="9571"/>
                  <a:pt x="23717" y="9643"/>
                  <a:pt x="23788" y="9748"/>
                </a:cubicBezTo>
                <a:cubicBezTo>
                  <a:pt x="23827" y="9806"/>
                  <a:pt x="23930" y="9932"/>
                  <a:pt x="23986" y="9971"/>
                </a:cubicBezTo>
                <a:cubicBezTo>
                  <a:pt x="24022" y="9996"/>
                  <a:pt x="24098" y="10025"/>
                  <a:pt x="24135" y="10046"/>
                </a:cubicBezTo>
                <a:cubicBezTo>
                  <a:pt x="24194" y="10080"/>
                  <a:pt x="24184" y="10077"/>
                  <a:pt x="24160" y="10120"/>
                </a:cubicBezTo>
                <a:cubicBezTo>
                  <a:pt x="24131" y="10172"/>
                  <a:pt x="24081" y="10220"/>
                  <a:pt x="24036" y="10269"/>
                </a:cubicBezTo>
                <a:cubicBezTo>
                  <a:pt x="23994" y="10314"/>
                  <a:pt x="23909" y="10382"/>
                  <a:pt x="23862" y="10443"/>
                </a:cubicBezTo>
                <a:cubicBezTo>
                  <a:pt x="23799" y="10525"/>
                  <a:pt x="23741" y="10626"/>
                  <a:pt x="23688" y="10716"/>
                </a:cubicBezTo>
                <a:cubicBezTo>
                  <a:pt x="23642" y="10795"/>
                  <a:pt x="23624" y="10889"/>
                  <a:pt x="23589" y="10964"/>
                </a:cubicBezTo>
                <a:cubicBezTo>
                  <a:pt x="23572" y="11000"/>
                  <a:pt x="23510" y="10998"/>
                  <a:pt x="23515" y="11038"/>
                </a:cubicBezTo>
                <a:cubicBezTo>
                  <a:pt x="23540" y="11038"/>
                  <a:pt x="23548" y="11038"/>
                  <a:pt x="23540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0760" y="4062240"/>
            <a:ext cx="1482480" cy="376560"/>
          </a:xfrm>
          <a:custGeom>
            <a:avLst/>
            <a:gdLst/>
            <a:ahLst/>
            <a:rect l="l" t="t" r="r" b="b"/>
            <a:pathLst>
              <a:path w="4118" h="1043">
                <a:moveTo>
                  <a:pt x="7392" y="11633"/>
                </a:moveTo>
                <a:cubicBezTo>
                  <a:pt x="7392" y="11641"/>
                  <a:pt x="7392" y="11650"/>
                  <a:pt x="7392" y="11658"/>
                </a:cubicBezTo>
                <a:cubicBezTo>
                  <a:pt x="7447" y="11658"/>
                  <a:pt x="7463" y="11670"/>
                  <a:pt x="7516" y="11683"/>
                </a:cubicBezTo>
                <a:cubicBezTo>
                  <a:pt x="7610" y="11707"/>
                  <a:pt x="7739" y="11683"/>
                  <a:pt x="7838" y="11683"/>
                </a:cubicBezTo>
              </a:path>
              <a:path w="4118" h="1043">
                <a:moveTo>
                  <a:pt x="8458" y="11509"/>
                </a:moveTo>
                <a:cubicBezTo>
                  <a:pt x="8499" y="11414"/>
                  <a:pt x="8466" y="11472"/>
                  <a:pt x="8458" y="11410"/>
                </a:cubicBezTo>
                <a:cubicBezTo>
                  <a:pt x="8454" y="11378"/>
                  <a:pt x="8460" y="11356"/>
                  <a:pt x="8434" y="11336"/>
                </a:cubicBezTo>
                <a:cubicBezTo>
                  <a:pt x="8416" y="11322"/>
                  <a:pt x="8343" y="11268"/>
                  <a:pt x="8310" y="11286"/>
                </a:cubicBezTo>
                <a:cubicBezTo>
                  <a:pt x="8262" y="11313"/>
                  <a:pt x="8271" y="11322"/>
                  <a:pt x="8235" y="11361"/>
                </a:cubicBezTo>
                <a:cubicBezTo>
                  <a:pt x="8186" y="11415"/>
                  <a:pt x="8184" y="11422"/>
                  <a:pt x="8161" y="11485"/>
                </a:cubicBezTo>
                <a:cubicBezTo>
                  <a:pt x="8133" y="11564"/>
                  <a:pt x="8147" y="11562"/>
                  <a:pt x="8161" y="11633"/>
                </a:cubicBezTo>
                <a:cubicBezTo>
                  <a:pt x="8174" y="11698"/>
                  <a:pt x="8185" y="11733"/>
                  <a:pt x="8260" y="11757"/>
                </a:cubicBezTo>
                <a:cubicBezTo>
                  <a:pt x="8327" y="11779"/>
                  <a:pt x="8364" y="11749"/>
                  <a:pt x="8409" y="11708"/>
                </a:cubicBezTo>
                <a:cubicBezTo>
                  <a:pt x="8440" y="11680"/>
                  <a:pt x="8454" y="11626"/>
                  <a:pt x="8458" y="11584"/>
                </a:cubicBezTo>
                <a:cubicBezTo>
                  <a:pt x="8462" y="11544"/>
                  <a:pt x="8458" y="11501"/>
                  <a:pt x="8458" y="11460"/>
                </a:cubicBezTo>
                <a:cubicBezTo>
                  <a:pt x="8419" y="11474"/>
                  <a:pt x="8434" y="11509"/>
                  <a:pt x="8434" y="11559"/>
                </a:cubicBezTo>
                <a:cubicBezTo>
                  <a:pt x="8434" y="11757"/>
                  <a:pt x="8434" y="11956"/>
                  <a:pt x="8434" y="12154"/>
                </a:cubicBezTo>
                <a:cubicBezTo>
                  <a:pt x="8462" y="12140"/>
                  <a:pt x="8522" y="12070"/>
                  <a:pt x="8533" y="12030"/>
                </a:cubicBezTo>
                <a:cubicBezTo>
                  <a:pt x="8533" y="12014"/>
                  <a:pt x="8533" y="11997"/>
                  <a:pt x="8533" y="11981"/>
                </a:cubicBezTo>
              </a:path>
              <a:path w="4118" h="1043">
                <a:moveTo>
                  <a:pt x="8954" y="11410"/>
                </a:moveTo>
                <a:cubicBezTo>
                  <a:pt x="8948" y="11457"/>
                  <a:pt x="8945" y="11514"/>
                  <a:pt x="8930" y="11559"/>
                </a:cubicBezTo>
                <a:cubicBezTo>
                  <a:pt x="8908" y="11626"/>
                  <a:pt x="8883" y="11694"/>
                  <a:pt x="8855" y="11757"/>
                </a:cubicBezTo>
                <a:cubicBezTo>
                  <a:pt x="8831" y="11812"/>
                  <a:pt x="8813" y="11894"/>
                  <a:pt x="8830" y="11956"/>
                </a:cubicBezTo>
                <a:cubicBezTo>
                  <a:pt x="8849" y="12024"/>
                  <a:pt x="8905" y="12080"/>
                  <a:pt x="8954" y="12129"/>
                </a:cubicBezTo>
                <a:cubicBezTo>
                  <a:pt x="9000" y="12175"/>
                  <a:pt x="9068" y="12190"/>
                  <a:pt x="9128" y="12204"/>
                </a:cubicBezTo>
                <a:cubicBezTo>
                  <a:pt x="9171" y="12214"/>
                  <a:pt x="9244" y="12172"/>
                  <a:pt x="9277" y="12154"/>
                </a:cubicBezTo>
                <a:cubicBezTo>
                  <a:pt x="9337" y="12122"/>
                  <a:pt x="9328" y="12110"/>
                  <a:pt x="9351" y="12055"/>
                </a:cubicBezTo>
                <a:cubicBezTo>
                  <a:pt x="9367" y="12019"/>
                  <a:pt x="9372" y="11971"/>
                  <a:pt x="9351" y="11931"/>
                </a:cubicBezTo>
                <a:cubicBezTo>
                  <a:pt x="9338" y="11906"/>
                  <a:pt x="9278" y="11891"/>
                  <a:pt x="9252" y="11906"/>
                </a:cubicBezTo>
                <a:cubicBezTo>
                  <a:pt x="9228" y="11919"/>
                  <a:pt x="9162" y="11950"/>
                  <a:pt x="9153" y="11981"/>
                </a:cubicBezTo>
                <a:cubicBezTo>
                  <a:pt x="9138" y="12032"/>
                  <a:pt x="9128" y="12073"/>
                  <a:pt x="9128" y="12129"/>
                </a:cubicBezTo>
                <a:cubicBezTo>
                  <a:pt x="9128" y="12188"/>
                  <a:pt x="9114" y="12235"/>
                  <a:pt x="9153" y="12278"/>
                </a:cubicBezTo>
                <a:cubicBezTo>
                  <a:pt x="9195" y="12325"/>
                  <a:pt x="9177" y="12328"/>
                  <a:pt x="9252" y="12328"/>
                </a:cubicBezTo>
              </a:path>
              <a:path w="4118" h="1043">
                <a:moveTo>
                  <a:pt x="9847" y="11559"/>
                </a:moveTo>
                <a:cubicBezTo>
                  <a:pt x="9837" y="11598"/>
                  <a:pt x="9796" y="11727"/>
                  <a:pt x="9798" y="11757"/>
                </a:cubicBezTo>
                <a:cubicBezTo>
                  <a:pt x="9803" y="11824"/>
                  <a:pt x="9831" y="11899"/>
                  <a:pt x="9847" y="11956"/>
                </a:cubicBezTo>
                <a:cubicBezTo>
                  <a:pt x="9858" y="11994"/>
                  <a:pt x="9885" y="12019"/>
                  <a:pt x="9897" y="12055"/>
                </a:cubicBezTo>
                <a:cubicBezTo>
                  <a:pt x="9897" y="12063"/>
                  <a:pt x="9897" y="12072"/>
                  <a:pt x="9897" y="12080"/>
                </a:cubicBezTo>
              </a:path>
              <a:path w="4118" h="1043">
                <a:moveTo>
                  <a:pt x="9649" y="11782"/>
                </a:moveTo>
                <a:cubicBezTo>
                  <a:pt x="9765" y="11782"/>
                  <a:pt x="9880" y="11782"/>
                  <a:pt x="9996" y="11782"/>
                </a:cubicBezTo>
              </a:path>
              <a:path w="4118" h="1043">
                <a:moveTo>
                  <a:pt x="10294" y="11559"/>
                </a:moveTo>
                <a:cubicBezTo>
                  <a:pt x="10393" y="11553"/>
                  <a:pt x="10412" y="11550"/>
                  <a:pt x="10492" y="11534"/>
                </a:cubicBezTo>
              </a:path>
              <a:path w="4118" h="1043">
                <a:moveTo>
                  <a:pt x="10765" y="11361"/>
                </a:moveTo>
                <a:cubicBezTo>
                  <a:pt x="10765" y="11582"/>
                  <a:pt x="10729" y="11853"/>
                  <a:pt x="10790" y="12055"/>
                </a:cubicBezTo>
                <a:cubicBezTo>
                  <a:pt x="10808" y="12116"/>
                  <a:pt x="10776" y="12119"/>
                  <a:pt x="10840" y="12105"/>
                </a:cubicBezTo>
                <a:cubicBezTo>
                  <a:pt x="10848" y="12105"/>
                  <a:pt x="10856" y="12105"/>
                  <a:pt x="10864" y="12105"/>
                </a:cubicBezTo>
              </a:path>
              <a:path w="4118" h="1043">
                <a:moveTo>
                  <a:pt x="11286" y="11485"/>
                </a:moveTo>
                <a:cubicBezTo>
                  <a:pt x="11278" y="11429"/>
                  <a:pt x="11268" y="11404"/>
                  <a:pt x="11212" y="11385"/>
                </a:cubicBezTo>
                <a:cubicBezTo>
                  <a:pt x="11163" y="11368"/>
                  <a:pt x="11103" y="11404"/>
                  <a:pt x="11088" y="11410"/>
                </a:cubicBezTo>
                <a:cubicBezTo>
                  <a:pt x="11017" y="11441"/>
                  <a:pt x="11059" y="11455"/>
                  <a:pt x="11063" y="11509"/>
                </a:cubicBezTo>
                <a:cubicBezTo>
                  <a:pt x="11069" y="11586"/>
                  <a:pt x="11124" y="11614"/>
                  <a:pt x="11162" y="11683"/>
                </a:cubicBezTo>
                <a:cubicBezTo>
                  <a:pt x="11203" y="11758"/>
                  <a:pt x="11248" y="11829"/>
                  <a:pt x="11286" y="11906"/>
                </a:cubicBezTo>
                <a:cubicBezTo>
                  <a:pt x="11319" y="11972"/>
                  <a:pt x="11345" y="12035"/>
                  <a:pt x="11361" y="12105"/>
                </a:cubicBezTo>
                <a:cubicBezTo>
                  <a:pt x="11369" y="12139"/>
                  <a:pt x="11374" y="12210"/>
                  <a:pt x="11336" y="12229"/>
                </a:cubicBezTo>
                <a:cubicBezTo>
                  <a:pt x="11310" y="12242"/>
                  <a:pt x="11250" y="12231"/>
                  <a:pt x="11237" y="12204"/>
                </a:cubicBezTo>
                <a:cubicBezTo>
                  <a:pt x="11218" y="12164"/>
                  <a:pt x="11212" y="12130"/>
                  <a:pt x="11212" y="12080"/>
                </a:cubicBezTo>
                <a:cubicBezTo>
                  <a:pt x="11212" y="12026"/>
                  <a:pt x="11210" y="11973"/>
                  <a:pt x="11237" y="11931"/>
                </a:cubicBezTo>
                <a:cubicBezTo>
                  <a:pt x="11259" y="11897"/>
                  <a:pt x="11272" y="11857"/>
                  <a:pt x="11311" y="11832"/>
                </a:cubicBezTo>
                <a:cubicBezTo>
                  <a:pt x="11360" y="11801"/>
                  <a:pt x="11393" y="11774"/>
                  <a:pt x="11435" y="11733"/>
                </a:cubicBezTo>
                <a:cubicBezTo>
                  <a:pt x="11479" y="11689"/>
                  <a:pt x="11509" y="11683"/>
                  <a:pt x="11485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6920" y="4152960"/>
            <a:ext cx="1760400" cy="571320"/>
          </a:xfrm>
          <a:custGeom>
            <a:avLst/>
            <a:gdLst/>
            <a:ahLst/>
            <a:rect l="l" t="t" r="r" b="b"/>
            <a:pathLst>
              <a:path w="4888" h="1589">
                <a:moveTo>
                  <a:pt x="20092" y="11559"/>
                </a:moveTo>
                <a:cubicBezTo>
                  <a:pt x="20084" y="11613"/>
                  <a:pt x="20084" y="11617"/>
                  <a:pt x="20042" y="11658"/>
                </a:cubicBezTo>
                <a:cubicBezTo>
                  <a:pt x="19978" y="11721"/>
                  <a:pt x="19909" y="11771"/>
                  <a:pt x="19844" y="11832"/>
                </a:cubicBezTo>
                <a:cubicBezTo>
                  <a:pt x="19764" y="11907"/>
                  <a:pt x="19697" y="11976"/>
                  <a:pt x="19621" y="12055"/>
                </a:cubicBezTo>
                <a:cubicBezTo>
                  <a:pt x="19549" y="12130"/>
                  <a:pt x="19491" y="12204"/>
                  <a:pt x="19422" y="12278"/>
                </a:cubicBezTo>
                <a:cubicBezTo>
                  <a:pt x="19385" y="12318"/>
                  <a:pt x="19363" y="12363"/>
                  <a:pt x="19323" y="12402"/>
                </a:cubicBezTo>
                <a:cubicBezTo>
                  <a:pt x="19275" y="12450"/>
                  <a:pt x="19306" y="12453"/>
                  <a:pt x="19323" y="12477"/>
                </a:cubicBezTo>
                <a:cubicBezTo>
                  <a:pt x="19348" y="12513"/>
                  <a:pt x="19410" y="12524"/>
                  <a:pt x="19447" y="12551"/>
                </a:cubicBezTo>
                <a:cubicBezTo>
                  <a:pt x="19497" y="12588"/>
                  <a:pt x="19562" y="12611"/>
                  <a:pt x="19621" y="12650"/>
                </a:cubicBezTo>
                <a:cubicBezTo>
                  <a:pt x="19687" y="12694"/>
                  <a:pt x="19757" y="12727"/>
                  <a:pt x="19819" y="12774"/>
                </a:cubicBezTo>
                <a:cubicBezTo>
                  <a:pt x="19848" y="12796"/>
                  <a:pt x="19885" y="12866"/>
                  <a:pt x="19893" y="12898"/>
                </a:cubicBezTo>
                <a:cubicBezTo>
                  <a:pt x="19904" y="12944"/>
                  <a:pt x="19904" y="12950"/>
                  <a:pt x="19918" y="12973"/>
                </a:cubicBezTo>
              </a:path>
              <a:path w="4888" h="1589">
                <a:moveTo>
                  <a:pt x="20017" y="12229"/>
                </a:moveTo>
                <a:cubicBezTo>
                  <a:pt x="20089" y="12229"/>
                  <a:pt x="20150" y="12211"/>
                  <a:pt x="20216" y="12204"/>
                </a:cubicBezTo>
                <a:cubicBezTo>
                  <a:pt x="20327" y="12192"/>
                  <a:pt x="20364" y="12204"/>
                  <a:pt x="20464" y="12154"/>
                </a:cubicBezTo>
                <a:cubicBezTo>
                  <a:pt x="20507" y="12132"/>
                  <a:pt x="20518" y="12128"/>
                  <a:pt x="20538" y="12105"/>
                </a:cubicBezTo>
              </a:path>
              <a:path w="4888" h="1589">
                <a:moveTo>
                  <a:pt x="20687" y="11782"/>
                </a:moveTo>
                <a:cubicBezTo>
                  <a:pt x="20778" y="11715"/>
                  <a:pt x="20801" y="11723"/>
                  <a:pt x="20910" y="11733"/>
                </a:cubicBezTo>
                <a:cubicBezTo>
                  <a:pt x="20978" y="11739"/>
                  <a:pt x="20999" y="11761"/>
                  <a:pt x="21034" y="11807"/>
                </a:cubicBezTo>
                <a:cubicBezTo>
                  <a:pt x="21071" y="11855"/>
                  <a:pt x="21016" y="11880"/>
                  <a:pt x="20985" y="11931"/>
                </a:cubicBezTo>
                <a:cubicBezTo>
                  <a:pt x="20944" y="12000"/>
                  <a:pt x="20907" y="12043"/>
                  <a:pt x="20836" y="12080"/>
                </a:cubicBezTo>
                <a:cubicBezTo>
                  <a:pt x="20779" y="12110"/>
                  <a:pt x="20759" y="12144"/>
                  <a:pt x="20712" y="12179"/>
                </a:cubicBezTo>
                <a:cubicBezTo>
                  <a:pt x="20798" y="12179"/>
                  <a:pt x="20882" y="12167"/>
                  <a:pt x="20960" y="12204"/>
                </a:cubicBezTo>
                <a:cubicBezTo>
                  <a:pt x="21016" y="12231"/>
                  <a:pt x="21096" y="12256"/>
                  <a:pt x="21109" y="12328"/>
                </a:cubicBezTo>
                <a:cubicBezTo>
                  <a:pt x="21129" y="12434"/>
                  <a:pt x="21051" y="12485"/>
                  <a:pt x="20985" y="12551"/>
                </a:cubicBezTo>
                <a:cubicBezTo>
                  <a:pt x="20921" y="12615"/>
                  <a:pt x="20865" y="12681"/>
                  <a:pt x="20786" y="12725"/>
                </a:cubicBezTo>
                <a:cubicBezTo>
                  <a:pt x="20777" y="12730"/>
                  <a:pt x="20670" y="12814"/>
                  <a:pt x="20737" y="12750"/>
                </a:cubicBezTo>
              </a:path>
              <a:path w="4888" h="1589">
                <a:moveTo>
                  <a:pt x="21506" y="11857"/>
                </a:moveTo>
                <a:cubicBezTo>
                  <a:pt x="21514" y="11840"/>
                  <a:pt x="21522" y="11824"/>
                  <a:pt x="21530" y="11807"/>
                </a:cubicBezTo>
                <a:cubicBezTo>
                  <a:pt x="21487" y="11807"/>
                  <a:pt x="21444" y="11818"/>
                  <a:pt x="21406" y="11832"/>
                </a:cubicBezTo>
                <a:cubicBezTo>
                  <a:pt x="21325" y="11861"/>
                  <a:pt x="21304" y="11943"/>
                  <a:pt x="21258" y="12005"/>
                </a:cubicBezTo>
                <a:cubicBezTo>
                  <a:pt x="21231" y="12041"/>
                  <a:pt x="21217" y="12105"/>
                  <a:pt x="21233" y="12154"/>
                </a:cubicBezTo>
                <a:cubicBezTo>
                  <a:pt x="21253" y="12214"/>
                  <a:pt x="21278" y="12270"/>
                  <a:pt x="21307" y="12328"/>
                </a:cubicBezTo>
                <a:cubicBezTo>
                  <a:pt x="21355" y="12423"/>
                  <a:pt x="21423" y="12521"/>
                  <a:pt x="21431" y="12626"/>
                </a:cubicBezTo>
                <a:cubicBezTo>
                  <a:pt x="21436" y="12685"/>
                  <a:pt x="21435" y="12724"/>
                  <a:pt x="21406" y="12750"/>
                </a:cubicBezTo>
                <a:cubicBezTo>
                  <a:pt x="21368" y="12783"/>
                  <a:pt x="21346" y="12784"/>
                  <a:pt x="21307" y="12750"/>
                </a:cubicBezTo>
                <a:cubicBezTo>
                  <a:pt x="21265" y="12713"/>
                  <a:pt x="21282" y="12654"/>
                  <a:pt x="21282" y="12601"/>
                </a:cubicBezTo>
                <a:cubicBezTo>
                  <a:pt x="21282" y="12504"/>
                  <a:pt x="21316" y="12435"/>
                  <a:pt x="21357" y="12353"/>
                </a:cubicBezTo>
                <a:cubicBezTo>
                  <a:pt x="21394" y="12280"/>
                  <a:pt x="21419" y="12203"/>
                  <a:pt x="21456" y="12129"/>
                </a:cubicBezTo>
                <a:cubicBezTo>
                  <a:pt x="21486" y="12069"/>
                  <a:pt x="21538" y="12013"/>
                  <a:pt x="21580" y="11981"/>
                </a:cubicBezTo>
                <a:cubicBezTo>
                  <a:pt x="21605" y="11956"/>
                  <a:pt x="21613" y="11948"/>
                  <a:pt x="21630" y="11931"/>
                </a:cubicBezTo>
              </a:path>
              <a:path w="4888" h="1589">
                <a:moveTo>
                  <a:pt x="21704" y="12700"/>
                </a:moveTo>
                <a:cubicBezTo>
                  <a:pt x="21682" y="12798"/>
                  <a:pt x="21670" y="12908"/>
                  <a:pt x="21630" y="12998"/>
                </a:cubicBezTo>
                <a:cubicBezTo>
                  <a:pt x="21618" y="13025"/>
                  <a:pt x="21555" y="13141"/>
                  <a:pt x="21580" y="13097"/>
                </a:cubicBezTo>
                <a:cubicBezTo>
                  <a:pt x="21588" y="13089"/>
                  <a:pt x="21597" y="13080"/>
                  <a:pt x="21605" y="13072"/>
                </a:cubicBezTo>
              </a:path>
              <a:path w="4888" h="1589">
                <a:moveTo>
                  <a:pt x="22076" y="11906"/>
                </a:moveTo>
                <a:cubicBezTo>
                  <a:pt x="22113" y="11878"/>
                  <a:pt x="22177" y="11865"/>
                  <a:pt x="22225" y="11857"/>
                </a:cubicBezTo>
                <a:cubicBezTo>
                  <a:pt x="22287" y="11847"/>
                  <a:pt x="22340" y="11856"/>
                  <a:pt x="22399" y="11832"/>
                </a:cubicBezTo>
                <a:cubicBezTo>
                  <a:pt x="22409" y="11828"/>
                  <a:pt x="22521" y="11787"/>
                  <a:pt x="22523" y="11782"/>
                </a:cubicBezTo>
                <a:cubicBezTo>
                  <a:pt x="22523" y="11766"/>
                  <a:pt x="22523" y="11749"/>
                  <a:pt x="22523" y="11733"/>
                </a:cubicBezTo>
              </a:path>
              <a:path w="4888" h="1589">
                <a:moveTo>
                  <a:pt x="22002" y="11956"/>
                </a:moveTo>
                <a:cubicBezTo>
                  <a:pt x="21981" y="12026"/>
                  <a:pt x="21961" y="12084"/>
                  <a:pt x="21952" y="12154"/>
                </a:cubicBezTo>
                <a:cubicBezTo>
                  <a:pt x="21996" y="12154"/>
                  <a:pt x="22037" y="12144"/>
                  <a:pt x="22076" y="12129"/>
                </a:cubicBezTo>
                <a:cubicBezTo>
                  <a:pt x="22157" y="12097"/>
                  <a:pt x="22198" y="12096"/>
                  <a:pt x="22275" y="12105"/>
                </a:cubicBezTo>
                <a:cubicBezTo>
                  <a:pt x="22364" y="12115"/>
                  <a:pt x="22385" y="12141"/>
                  <a:pt x="22448" y="12204"/>
                </a:cubicBezTo>
                <a:cubicBezTo>
                  <a:pt x="22503" y="12259"/>
                  <a:pt x="22498" y="12305"/>
                  <a:pt x="22498" y="12378"/>
                </a:cubicBezTo>
                <a:cubicBezTo>
                  <a:pt x="22498" y="12434"/>
                  <a:pt x="22437" y="12550"/>
                  <a:pt x="22399" y="12601"/>
                </a:cubicBezTo>
                <a:cubicBezTo>
                  <a:pt x="22351" y="12666"/>
                  <a:pt x="22262" y="12703"/>
                  <a:pt x="22200" y="12750"/>
                </a:cubicBezTo>
                <a:cubicBezTo>
                  <a:pt x="22151" y="12787"/>
                  <a:pt x="22153" y="12792"/>
                  <a:pt x="22175" y="12725"/>
                </a:cubicBezTo>
              </a:path>
              <a:path w="4888" h="1589">
                <a:moveTo>
                  <a:pt x="22796" y="11782"/>
                </a:moveTo>
                <a:cubicBezTo>
                  <a:pt x="22895" y="11782"/>
                  <a:pt x="22976" y="11772"/>
                  <a:pt x="23068" y="11757"/>
                </a:cubicBezTo>
                <a:cubicBezTo>
                  <a:pt x="23099" y="11752"/>
                  <a:pt x="23227" y="11731"/>
                  <a:pt x="23242" y="11733"/>
                </a:cubicBezTo>
                <a:cubicBezTo>
                  <a:pt x="23283" y="11752"/>
                  <a:pt x="23289" y="11760"/>
                  <a:pt x="23316" y="11757"/>
                </a:cubicBezTo>
                <a:cubicBezTo>
                  <a:pt x="23306" y="11798"/>
                  <a:pt x="23274" y="11844"/>
                  <a:pt x="23267" y="11881"/>
                </a:cubicBezTo>
                <a:cubicBezTo>
                  <a:pt x="23250" y="11965"/>
                  <a:pt x="23206" y="12045"/>
                  <a:pt x="23192" y="12129"/>
                </a:cubicBezTo>
                <a:cubicBezTo>
                  <a:pt x="23179" y="12204"/>
                  <a:pt x="23155" y="12279"/>
                  <a:pt x="23143" y="12353"/>
                </a:cubicBezTo>
                <a:cubicBezTo>
                  <a:pt x="23129" y="12443"/>
                  <a:pt x="23141" y="12575"/>
                  <a:pt x="23168" y="12626"/>
                </a:cubicBezTo>
                <a:cubicBezTo>
                  <a:pt x="23185" y="12660"/>
                  <a:pt x="23209" y="12609"/>
                  <a:pt x="23242" y="12576"/>
                </a:cubicBezTo>
              </a:path>
              <a:path w="4888" h="1589">
                <a:moveTo>
                  <a:pt x="23490" y="11534"/>
                </a:moveTo>
                <a:cubicBezTo>
                  <a:pt x="23539" y="11583"/>
                  <a:pt x="23578" y="11625"/>
                  <a:pt x="23639" y="11658"/>
                </a:cubicBezTo>
                <a:cubicBezTo>
                  <a:pt x="23741" y="11712"/>
                  <a:pt x="23854" y="11739"/>
                  <a:pt x="23961" y="11782"/>
                </a:cubicBezTo>
                <a:cubicBezTo>
                  <a:pt x="24012" y="11802"/>
                  <a:pt x="24069" y="11845"/>
                  <a:pt x="24110" y="11881"/>
                </a:cubicBezTo>
                <a:cubicBezTo>
                  <a:pt x="24140" y="11908"/>
                  <a:pt x="24174" y="11917"/>
                  <a:pt x="24185" y="11956"/>
                </a:cubicBezTo>
                <a:cubicBezTo>
                  <a:pt x="24194" y="11988"/>
                  <a:pt x="24173" y="12033"/>
                  <a:pt x="24160" y="12055"/>
                </a:cubicBezTo>
                <a:cubicBezTo>
                  <a:pt x="24109" y="12137"/>
                  <a:pt x="24002" y="12230"/>
                  <a:pt x="23937" y="12303"/>
                </a:cubicBezTo>
                <a:cubicBezTo>
                  <a:pt x="23843" y="12409"/>
                  <a:pt x="23746" y="12510"/>
                  <a:pt x="23664" y="12626"/>
                </a:cubicBezTo>
                <a:cubicBezTo>
                  <a:pt x="23614" y="12697"/>
                  <a:pt x="23588" y="12779"/>
                  <a:pt x="23540" y="12849"/>
                </a:cubicBezTo>
                <a:cubicBezTo>
                  <a:pt x="23532" y="12857"/>
                  <a:pt x="23523" y="12866"/>
                  <a:pt x="23515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81240" y="4456080"/>
            <a:ext cx="1035000" cy="473040"/>
          </a:xfrm>
          <a:custGeom>
            <a:avLst/>
            <a:gdLst/>
            <a:ahLst/>
            <a:rect l="l" t="t" r="r" b="b"/>
            <a:pathLst>
              <a:path w="2878" h="1315">
                <a:moveTo>
                  <a:pt x="8756" y="12948"/>
                </a:moveTo>
                <a:cubicBezTo>
                  <a:pt x="8846" y="12948"/>
                  <a:pt x="8920" y="12959"/>
                  <a:pt x="9004" y="12973"/>
                </a:cubicBezTo>
                <a:cubicBezTo>
                  <a:pt x="9061" y="12983"/>
                  <a:pt x="9262" y="12992"/>
                  <a:pt x="9277" y="12948"/>
                </a:cubicBezTo>
              </a:path>
              <a:path w="2878" h="1315">
                <a:moveTo>
                  <a:pt x="9748" y="12725"/>
                </a:moveTo>
                <a:cubicBezTo>
                  <a:pt x="9748" y="12937"/>
                  <a:pt x="9726" y="13169"/>
                  <a:pt x="9773" y="13370"/>
                </a:cubicBezTo>
                <a:cubicBezTo>
                  <a:pt x="9782" y="13410"/>
                  <a:pt x="9761" y="13481"/>
                  <a:pt x="9798" y="13444"/>
                </a:cubicBezTo>
              </a:path>
              <a:path w="2878" h="1315">
                <a:moveTo>
                  <a:pt x="10120" y="12700"/>
                </a:moveTo>
                <a:cubicBezTo>
                  <a:pt x="10139" y="12807"/>
                  <a:pt x="10145" y="12891"/>
                  <a:pt x="10145" y="12998"/>
                </a:cubicBezTo>
                <a:cubicBezTo>
                  <a:pt x="10145" y="13110"/>
                  <a:pt x="10165" y="13189"/>
                  <a:pt x="10170" y="13295"/>
                </a:cubicBezTo>
                <a:cubicBezTo>
                  <a:pt x="10173" y="13359"/>
                  <a:pt x="10195" y="13403"/>
                  <a:pt x="10195" y="13469"/>
                </a:cubicBezTo>
                <a:cubicBezTo>
                  <a:pt x="10195" y="13494"/>
                  <a:pt x="10195" y="13502"/>
                  <a:pt x="10220" y="13494"/>
                </a:cubicBezTo>
              </a:path>
              <a:path w="2878" h="1315">
                <a:moveTo>
                  <a:pt x="10468" y="12824"/>
                </a:moveTo>
                <a:cubicBezTo>
                  <a:pt x="10458" y="12975"/>
                  <a:pt x="10450" y="12926"/>
                  <a:pt x="10418" y="13022"/>
                </a:cubicBezTo>
                <a:cubicBezTo>
                  <a:pt x="10410" y="13046"/>
                  <a:pt x="10386" y="13130"/>
                  <a:pt x="10393" y="13146"/>
                </a:cubicBezTo>
                <a:cubicBezTo>
                  <a:pt x="10400" y="13163"/>
                  <a:pt x="10440" y="13220"/>
                  <a:pt x="10443" y="13221"/>
                </a:cubicBezTo>
                <a:cubicBezTo>
                  <a:pt x="10507" y="13253"/>
                  <a:pt x="10632" y="13205"/>
                  <a:pt x="10691" y="13196"/>
                </a:cubicBezTo>
                <a:cubicBezTo>
                  <a:pt x="10749" y="13187"/>
                  <a:pt x="10766" y="13200"/>
                  <a:pt x="10815" y="13171"/>
                </a:cubicBezTo>
              </a:path>
              <a:path w="2878" h="1315">
                <a:moveTo>
                  <a:pt x="10889" y="12700"/>
                </a:moveTo>
                <a:cubicBezTo>
                  <a:pt x="10889" y="12774"/>
                  <a:pt x="10857" y="12910"/>
                  <a:pt x="10864" y="12973"/>
                </a:cubicBezTo>
                <a:cubicBezTo>
                  <a:pt x="10875" y="13073"/>
                  <a:pt x="10891" y="13196"/>
                  <a:pt x="10914" y="13295"/>
                </a:cubicBezTo>
                <a:cubicBezTo>
                  <a:pt x="10933" y="13376"/>
                  <a:pt x="10975" y="13464"/>
                  <a:pt x="10988" y="13543"/>
                </a:cubicBezTo>
                <a:cubicBezTo>
                  <a:pt x="10989" y="13552"/>
                  <a:pt x="10998" y="13680"/>
                  <a:pt x="11013" y="13692"/>
                </a:cubicBezTo>
                <a:cubicBezTo>
                  <a:pt x="11021" y="13692"/>
                  <a:pt x="11030" y="13692"/>
                  <a:pt x="11038" y="13692"/>
                </a:cubicBezTo>
              </a:path>
              <a:path w="2878" h="1315">
                <a:moveTo>
                  <a:pt x="11013" y="12576"/>
                </a:moveTo>
                <a:cubicBezTo>
                  <a:pt x="10829" y="12490"/>
                  <a:pt x="10729" y="12459"/>
                  <a:pt x="10542" y="12427"/>
                </a:cubicBezTo>
                <a:cubicBezTo>
                  <a:pt x="10410" y="12404"/>
                  <a:pt x="10306" y="12378"/>
                  <a:pt x="10170" y="12378"/>
                </a:cubicBezTo>
                <a:cubicBezTo>
                  <a:pt x="9995" y="12378"/>
                  <a:pt x="9820" y="12364"/>
                  <a:pt x="9649" y="12402"/>
                </a:cubicBezTo>
                <a:cubicBezTo>
                  <a:pt x="9516" y="12431"/>
                  <a:pt x="9386" y="12443"/>
                  <a:pt x="9252" y="12477"/>
                </a:cubicBezTo>
                <a:cubicBezTo>
                  <a:pt x="9118" y="12511"/>
                  <a:pt x="8978" y="12563"/>
                  <a:pt x="8855" y="12626"/>
                </a:cubicBezTo>
                <a:cubicBezTo>
                  <a:pt x="8774" y="12668"/>
                  <a:pt x="8689" y="12726"/>
                  <a:pt x="8632" y="12799"/>
                </a:cubicBezTo>
                <a:cubicBezTo>
                  <a:pt x="8596" y="12845"/>
                  <a:pt x="8567" y="12889"/>
                  <a:pt x="8558" y="12948"/>
                </a:cubicBezTo>
                <a:cubicBezTo>
                  <a:pt x="8549" y="13007"/>
                  <a:pt x="8553" y="13071"/>
                  <a:pt x="8582" y="13122"/>
                </a:cubicBezTo>
                <a:cubicBezTo>
                  <a:pt x="8615" y="13181"/>
                  <a:pt x="8702" y="13239"/>
                  <a:pt x="8756" y="13271"/>
                </a:cubicBezTo>
                <a:cubicBezTo>
                  <a:pt x="8876" y="13343"/>
                  <a:pt x="8973" y="13401"/>
                  <a:pt x="9103" y="13444"/>
                </a:cubicBezTo>
                <a:cubicBezTo>
                  <a:pt x="9210" y="13480"/>
                  <a:pt x="9317" y="13514"/>
                  <a:pt x="9426" y="13543"/>
                </a:cubicBezTo>
                <a:cubicBezTo>
                  <a:pt x="9576" y="13584"/>
                  <a:pt x="9715" y="13614"/>
                  <a:pt x="9872" y="13618"/>
                </a:cubicBezTo>
                <a:cubicBezTo>
                  <a:pt x="9987" y="13621"/>
                  <a:pt x="10104" y="13661"/>
                  <a:pt x="10220" y="13643"/>
                </a:cubicBezTo>
                <a:cubicBezTo>
                  <a:pt x="10343" y="13624"/>
                  <a:pt x="10470" y="13638"/>
                  <a:pt x="10592" y="13618"/>
                </a:cubicBezTo>
                <a:cubicBezTo>
                  <a:pt x="10696" y="13601"/>
                  <a:pt x="10812" y="13590"/>
                  <a:pt x="10914" y="13568"/>
                </a:cubicBezTo>
                <a:cubicBezTo>
                  <a:pt x="11009" y="13547"/>
                  <a:pt x="11106" y="13495"/>
                  <a:pt x="11187" y="13444"/>
                </a:cubicBezTo>
                <a:cubicBezTo>
                  <a:pt x="11259" y="13399"/>
                  <a:pt x="11347" y="13345"/>
                  <a:pt x="11385" y="13271"/>
                </a:cubicBezTo>
                <a:cubicBezTo>
                  <a:pt x="11411" y="13221"/>
                  <a:pt x="11437" y="13151"/>
                  <a:pt x="11435" y="13097"/>
                </a:cubicBezTo>
                <a:cubicBezTo>
                  <a:pt x="11432" y="12994"/>
                  <a:pt x="11392" y="12927"/>
                  <a:pt x="11336" y="12849"/>
                </a:cubicBezTo>
                <a:cubicBezTo>
                  <a:pt x="11287" y="12780"/>
                  <a:pt x="11187" y="12729"/>
                  <a:pt x="11112" y="12700"/>
                </a:cubicBezTo>
                <a:cubicBezTo>
                  <a:pt x="11011" y="12661"/>
                  <a:pt x="10916" y="12648"/>
                  <a:pt x="10815" y="12626"/>
                </a:cubicBezTo>
                <a:cubicBezTo>
                  <a:pt x="10757" y="12613"/>
                  <a:pt x="10696" y="12591"/>
                  <a:pt x="10641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7120" y="3510000"/>
            <a:ext cx="4894200" cy="581040"/>
          </a:xfrm>
          <a:custGeom>
            <a:avLst/>
            <a:gdLst/>
            <a:ahLst/>
            <a:rect l="l" t="t" r="r" b="b"/>
            <a:pathLst>
              <a:path w="13594" h="1614">
                <a:moveTo>
                  <a:pt x="4266" y="11187"/>
                </a:moveTo>
                <a:cubicBezTo>
                  <a:pt x="4267" y="11186"/>
                  <a:pt x="4253" y="11094"/>
                  <a:pt x="4291" y="11063"/>
                </a:cubicBezTo>
                <a:cubicBezTo>
                  <a:pt x="4345" y="11019"/>
                  <a:pt x="4372" y="11013"/>
                  <a:pt x="4440" y="10988"/>
                </a:cubicBezTo>
                <a:cubicBezTo>
                  <a:pt x="4553" y="10947"/>
                  <a:pt x="4668" y="10926"/>
                  <a:pt x="4787" y="10914"/>
                </a:cubicBezTo>
                <a:cubicBezTo>
                  <a:pt x="5056" y="10887"/>
                  <a:pt x="5339" y="10945"/>
                  <a:pt x="5606" y="10964"/>
                </a:cubicBezTo>
                <a:cubicBezTo>
                  <a:pt x="5764" y="10975"/>
                  <a:pt x="5920" y="10974"/>
                  <a:pt x="6077" y="10988"/>
                </a:cubicBezTo>
                <a:cubicBezTo>
                  <a:pt x="6417" y="11019"/>
                  <a:pt x="6753" y="11080"/>
                  <a:pt x="7094" y="11112"/>
                </a:cubicBezTo>
                <a:cubicBezTo>
                  <a:pt x="7326" y="11134"/>
                  <a:pt x="7557" y="11145"/>
                  <a:pt x="7789" y="11162"/>
                </a:cubicBezTo>
                <a:cubicBezTo>
                  <a:pt x="8020" y="11179"/>
                  <a:pt x="8251" y="11196"/>
                  <a:pt x="8483" y="11212"/>
                </a:cubicBezTo>
                <a:cubicBezTo>
                  <a:pt x="8789" y="11233"/>
                  <a:pt x="9095" y="11254"/>
                  <a:pt x="9401" y="11261"/>
                </a:cubicBezTo>
                <a:cubicBezTo>
                  <a:pt x="9659" y="11267"/>
                  <a:pt x="9913" y="11280"/>
                  <a:pt x="10170" y="11286"/>
                </a:cubicBezTo>
                <a:cubicBezTo>
                  <a:pt x="10864" y="11301"/>
                  <a:pt x="11561" y="11307"/>
                  <a:pt x="12254" y="11311"/>
                </a:cubicBezTo>
                <a:cubicBezTo>
                  <a:pt x="12504" y="11313"/>
                  <a:pt x="12749" y="11330"/>
                  <a:pt x="12998" y="11336"/>
                </a:cubicBezTo>
                <a:cubicBezTo>
                  <a:pt x="13222" y="11341"/>
                  <a:pt x="13443" y="11356"/>
                  <a:pt x="13667" y="11361"/>
                </a:cubicBezTo>
                <a:cubicBezTo>
                  <a:pt x="13892" y="11366"/>
                  <a:pt x="14114" y="11352"/>
                  <a:pt x="14337" y="11336"/>
                </a:cubicBezTo>
                <a:cubicBezTo>
                  <a:pt x="14537" y="11322"/>
                  <a:pt x="14733" y="11291"/>
                  <a:pt x="14932" y="11261"/>
                </a:cubicBezTo>
                <a:cubicBezTo>
                  <a:pt x="15286" y="11208"/>
                  <a:pt x="15660" y="11150"/>
                  <a:pt x="15999" y="11038"/>
                </a:cubicBezTo>
                <a:cubicBezTo>
                  <a:pt x="16291" y="10941"/>
                  <a:pt x="16582" y="10784"/>
                  <a:pt x="16842" y="10641"/>
                </a:cubicBezTo>
                <a:cubicBezTo>
                  <a:pt x="16977" y="10566"/>
                  <a:pt x="17047" y="10544"/>
                  <a:pt x="17165" y="10443"/>
                </a:cubicBezTo>
                <a:cubicBezTo>
                  <a:pt x="17221" y="10395"/>
                  <a:pt x="17319" y="10375"/>
                  <a:pt x="17314" y="10294"/>
                </a:cubicBezTo>
                <a:cubicBezTo>
                  <a:pt x="17308" y="10203"/>
                  <a:pt x="17343" y="10216"/>
                  <a:pt x="17239" y="10145"/>
                </a:cubicBezTo>
                <a:cubicBezTo>
                  <a:pt x="17138" y="10076"/>
                  <a:pt x="16934" y="10086"/>
                  <a:pt x="16818" y="10071"/>
                </a:cubicBezTo>
                <a:cubicBezTo>
                  <a:pt x="16548" y="10036"/>
                  <a:pt x="16202" y="10037"/>
                  <a:pt x="15974" y="9996"/>
                </a:cubicBezTo>
                <a:cubicBezTo>
                  <a:pt x="16218" y="9969"/>
                  <a:pt x="16432" y="9949"/>
                  <a:pt x="16669" y="9897"/>
                </a:cubicBezTo>
                <a:cubicBezTo>
                  <a:pt x="16829" y="9862"/>
                  <a:pt x="17000" y="9850"/>
                  <a:pt x="17165" y="9823"/>
                </a:cubicBezTo>
                <a:cubicBezTo>
                  <a:pt x="17278" y="9804"/>
                  <a:pt x="17467" y="9712"/>
                  <a:pt x="17587" y="9748"/>
                </a:cubicBezTo>
                <a:cubicBezTo>
                  <a:pt x="17670" y="9773"/>
                  <a:pt x="17700" y="9781"/>
                  <a:pt x="17760" y="9847"/>
                </a:cubicBezTo>
                <a:cubicBezTo>
                  <a:pt x="17822" y="9916"/>
                  <a:pt x="17779" y="10110"/>
                  <a:pt x="17785" y="10195"/>
                </a:cubicBezTo>
                <a:cubicBezTo>
                  <a:pt x="17803" y="10463"/>
                  <a:pt x="17820" y="10800"/>
                  <a:pt x="17810" y="11063"/>
                </a:cubicBezTo>
                <a:cubicBezTo>
                  <a:pt x="17808" y="11113"/>
                  <a:pt x="17806" y="11113"/>
                  <a:pt x="17810" y="11162"/>
                </a:cubicBezTo>
                <a:cubicBezTo>
                  <a:pt x="17813" y="11195"/>
                  <a:pt x="17781" y="11104"/>
                  <a:pt x="17785" y="11137"/>
                </a:cubicBezTo>
                <a:cubicBezTo>
                  <a:pt x="17793" y="11145"/>
                  <a:pt x="17802" y="11154"/>
                  <a:pt x="17810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ddddd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ddddd"/>
                </a:solidFill>
                <a:latin typeface="Arial"/>
              </a:rPr>
              <a:t>Page 464</a:t>
            </a:r>
            <a:br>
              <a:rPr sz="7500"/>
            </a:br>
            <a:r>
              <a:rPr b="0" lang="en-US" sz="7500" spc="-1" strike="noStrike">
                <a:solidFill>
                  <a:srgbClr val="dddddd"/>
                </a:solidFill>
                <a:latin typeface="Arial"/>
              </a:rPr>
              <a:t>#1-11</a:t>
            </a:r>
            <a:endParaRPr b="0" lang="en-US" sz="75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44840" y="4286160"/>
            <a:ext cx="1403280" cy="1063800"/>
          </a:xfrm>
          <a:custGeom>
            <a:avLst/>
            <a:gdLst/>
            <a:ahLst/>
            <a:rect l="l" t="t" r="r" b="b"/>
            <a:pathLst>
              <a:path w="3896" h="2953">
                <a:moveTo>
                  <a:pt x="8682" y="13345"/>
                </a:moveTo>
                <a:cubicBezTo>
                  <a:pt x="8701" y="13371"/>
                  <a:pt x="8706" y="13439"/>
                  <a:pt x="8706" y="13395"/>
                </a:cubicBezTo>
                <a:cubicBezTo>
                  <a:pt x="8706" y="13349"/>
                  <a:pt x="8701" y="13285"/>
                  <a:pt x="8682" y="13246"/>
                </a:cubicBezTo>
                <a:cubicBezTo>
                  <a:pt x="8662" y="13206"/>
                  <a:pt x="8626" y="13166"/>
                  <a:pt x="8582" y="13146"/>
                </a:cubicBezTo>
                <a:cubicBezTo>
                  <a:pt x="8494" y="13107"/>
                  <a:pt x="8438" y="13123"/>
                  <a:pt x="8359" y="13171"/>
                </a:cubicBezTo>
                <a:cubicBezTo>
                  <a:pt x="8251" y="13237"/>
                  <a:pt x="8233" y="13286"/>
                  <a:pt x="8186" y="13395"/>
                </a:cubicBezTo>
                <a:cubicBezTo>
                  <a:pt x="8153" y="13471"/>
                  <a:pt x="8153" y="13517"/>
                  <a:pt x="8186" y="13593"/>
                </a:cubicBezTo>
                <a:cubicBezTo>
                  <a:pt x="8216" y="13663"/>
                  <a:pt x="8261" y="13680"/>
                  <a:pt x="8334" y="13692"/>
                </a:cubicBezTo>
                <a:cubicBezTo>
                  <a:pt x="8377" y="13699"/>
                  <a:pt x="8469" y="13666"/>
                  <a:pt x="8508" y="13643"/>
                </a:cubicBezTo>
                <a:cubicBezTo>
                  <a:pt x="8560" y="13611"/>
                  <a:pt x="8601" y="13571"/>
                  <a:pt x="8632" y="13519"/>
                </a:cubicBezTo>
                <a:cubicBezTo>
                  <a:pt x="8655" y="13481"/>
                  <a:pt x="8672" y="13433"/>
                  <a:pt x="8682" y="13395"/>
                </a:cubicBezTo>
                <a:cubicBezTo>
                  <a:pt x="8682" y="13489"/>
                  <a:pt x="8672" y="13578"/>
                  <a:pt x="8706" y="13667"/>
                </a:cubicBezTo>
                <a:cubicBezTo>
                  <a:pt x="8738" y="13752"/>
                  <a:pt x="8795" y="13786"/>
                  <a:pt x="8880" y="13791"/>
                </a:cubicBezTo>
                <a:cubicBezTo>
                  <a:pt x="8897" y="13791"/>
                  <a:pt x="8913" y="13791"/>
                  <a:pt x="8930" y="13791"/>
                </a:cubicBezTo>
              </a:path>
              <a:path w="3896" h="2953">
                <a:moveTo>
                  <a:pt x="9178" y="12750"/>
                </a:moveTo>
                <a:cubicBezTo>
                  <a:pt x="9150" y="12889"/>
                  <a:pt x="9150" y="13032"/>
                  <a:pt x="9128" y="13171"/>
                </a:cubicBezTo>
                <a:cubicBezTo>
                  <a:pt x="9103" y="13331"/>
                  <a:pt x="9092" y="13488"/>
                  <a:pt x="9103" y="13643"/>
                </a:cubicBezTo>
                <a:cubicBezTo>
                  <a:pt x="9108" y="13714"/>
                  <a:pt x="9080" y="13834"/>
                  <a:pt x="9128" y="13866"/>
                </a:cubicBezTo>
              </a:path>
              <a:path w="3896" h="2953">
                <a:moveTo>
                  <a:pt x="9674" y="12725"/>
                </a:moveTo>
                <a:cubicBezTo>
                  <a:pt x="9643" y="12848"/>
                  <a:pt x="9647" y="12973"/>
                  <a:pt x="9624" y="13097"/>
                </a:cubicBezTo>
                <a:cubicBezTo>
                  <a:pt x="9598" y="13234"/>
                  <a:pt x="9601" y="13357"/>
                  <a:pt x="9624" y="13494"/>
                </a:cubicBezTo>
                <a:cubicBezTo>
                  <a:pt x="9644" y="13612"/>
                  <a:pt x="9684" y="13724"/>
                  <a:pt x="9699" y="13841"/>
                </a:cubicBezTo>
                <a:cubicBezTo>
                  <a:pt x="9708" y="13906"/>
                  <a:pt x="9721" y="13931"/>
                  <a:pt x="9674" y="13915"/>
                </a:cubicBezTo>
              </a:path>
              <a:path w="3896" h="2953">
                <a:moveTo>
                  <a:pt x="7838" y="12353"/>
                </a:moveTo>
                <a:cubicBezTo>
                  <a:pt x="7618" y="12450"/>
                  <a:pt x="7336" y="12477"/>
                  <a:pt x="7169" y="12650"/>
                </a:cubicBezTo>
                <a:cubicBezTo>
                  <a:pt x="7128" y="12692"/>
                  <a:pt x="7088" y="12745"/>
                  <a:pt x="7119" y="12824"/>
                </a:cubicBezTo>
                <a:cubicBezTo>
                  <a:pt x="7172" y="12961"/>
                  <a:pt x="7387" y="12992"/>
                  <a:pt x="7441" y="13122"/>
                </a:cubicBezTo>
                <a:cubicBezTo>
                  <a:pt x="7476" y="13207"/>
                  <a:pt x="7461" y="13226"/>
                  <a:pt x="7392" y="13295"/>
                </a:cubicBezTo>
                <a:cubicBezTo>
                  <a:pt x="7300" y="13387"/>
                  <a:pt x="7144" y="13430"/>
                  <a:pt x="7094" y="13568"/>
                </a:cubicBezTo>
                <a:cubicBezTo>
                  <a:pt x="7057" y="13671"/>
                  <a:pt x="7113" y="13725"/>
                  <a:pt x="7193" y="13791"/>
                </a:cubicBezTo>
                <a:cubicBezTo>
                  <a:pt x="7312" y="13890"/>
                  <a:pt x="7454" y="13935"/>
                  <a:pt x="7590" y="13990"/>
                </a:cubicBezTo>
                <a:cubicBezTo>
                  <a:pt x="7703" y="14036"/>
                  <a:pt x="7897" y="14080"/>
                  <a:pt x="7987" y="14163"/>
                </a:cubicBezTo>
                <a:cubicBezTo>
                  <a:pt x="8038" y="14210"/>
                  <a:pt x="8039" y="14282"/>
                  <a:pt x="8062" y="14337"/>
                </a:cubicBezTo>
                <a:cubicBezTo>
                  <a:pt x="8102" y="14434"/>
                  <a:pt x="8136" y="14509"/>
                  <a:pt x="8210" y="14585"/>
                </a:cubicBezTo>
                <a:cubicBezTo>
                  <a:pt x="8307" y="14685"/>
                  <a:pt x="8477" y="14768"/>
                  <a:pt x="8607" y="14808"/>
                </a:cubicBezTo>
                <a:cubicBezTo>
                  <a:pt x="8757" y="14854"/>
                  <a:pt x="8923" y="14869"/>
                  <a:pt x="9079" y="14858"/>
                </a:cubicBezTo>
                <a:cubicBezTo>
                  <a:pt x="9171" y="14852"/>
                  <a:pt x="9295" y="14832"/>
                  <a:pt x="9376" y="14784"/>
                </a:cubicBezTo>
                <a:cubicBezTo>
                  <a:pt x="9502" y="14709"/>
                  <a:pt x="9484" y="14694"/>
                  <a:pt x="9649" y="14709"/>
                </a:cubicBezTo>
                <a:cubicBezTo>
                  <a:pt x="9774" y="14720"/>
                  <a:pt x="9893" y="14742"/>
                  <a:pt x="10021" y="14734"/>
                </a:cubicBezTo>
                <a:cubicBezTo>
                  <a:pt x="10137" y="14727"/>
                  <a:pt x="10270" y="14710"/>
                  <a:pt x="10368" y="14635"/>
                </a:cubicBezTo>
                <a:cubicBezTo>
                  <a:pt x="10448" y="14573"/>
                  <a:pt x="10546" y="14493"/>
                  <a:pt x="10567" y="14387"/>
                </a:cubicBezTo>
                <a:cubicBezTo>
                  <a:pt x="10584" y="14301"/>
                  <a:pt x="10510" y="14232"/>
                  <a:pt x="10492" y="14163"/>
                </a:cubicBezTo>
                <a:cubicBezTo>
                  <a:pt x="10492" y="14147"/>
                  <a:pt x="10492" y="14130"/>
                  <a:pt x="10492" y="14114"/>
                </a:cubicBezTo>
                <a:cubicBezTo>
                  <a:pt x="10568" y="14074"/>
                  <a:pt x="10645" y="14038"/>
                  <a:pt x="10716" y="13990"/>
                </a:cubicBezTo>
                <a:cubicBezTo>
                  <a:pt x="10810" y="13927"/>
                  <a:pt x="10864" y="13888"/>
                  <a:pt x="10914" y="13767"/>
                </a:cubicBezTo>
                <a:cubicBezTo>
                  <a:pt x="10993" y="13578"/>
                  <a:pt x="10951" y="13417"/>
                  <a:pt x="10840" y="13246"/>
                </a:cubicBezTo>
                <a:cubicBezTo>
                  <a:pt x="10753" y="13112"/>
                  <a:pt x="10610" y="13065"/>
                  <a:pt x="10492" y="12973"/>
                </a:cubicBezTo>
                <a:cubicBezTo>
                  <a:pt x="10443" y="12935"/>
                  <a:pt x="10419" y="12892"/>
                  <a:pt x="10393" y="12849"/>
                </a:cubicBezTo>
                <a:cubicBezTo>
                  <a:pt x="10355" y="12788"/>
                  <a:pt x="10370" y="12663"/>
                  <a:pt x="10319" y="12601"/>
                </a:cubicBezTo>
                <a:cubicBezTo>
                  <a:pt x="10170" y="12420"/>
                  <a:pt x="9944" y="12316"/>
                  <a:pt x="9723" y="12254"/>
                </a:cubicBezTo>
                <a:cubicBezTo>
                  <a:pt x="9609" y="12222"/>
                  <a:pt x="9444" y="12254"/>
                  <a:pt x="9351" y="12229"/>
                </a:cubicBezTo>
                <a:cubicBezTo>
                  <a:pt x="9286" y="12212"/>
                  <a:pt x="9331" y="12217"/>
                  <a:pt x="9277" y="12179"/>
                </a:cubicBezTo>
                <a:cubicBezTo>
                  <a:pt x="9216" y="12136"/>
                  <a:pt x="9167" y="12068"/>
                  <a:pt x="9103" y="12030"/>
                </a:cubicBezTo>
                <a:cubicBezTo>
                  <a:pt x="8958" y="11943"/>
                  <a:pt x="8748" y="11923"/>
                  <a:pt x="8582" y="11906"/>
                </a:cubicBezTo>
                <a:cubicBezTo>
                  <a:pt x="8429" y="11891"/>
                  <a:pt x="8195" y="11893"/>
                  <a:pt x="8062" y="11981"/>
                </a:cubicBezTo>
                <a:cubicBezTo>
                  <a:pt x="7995" y="12026"/>
                  <a:pt x="8083" y="12030"/>
                  <a:pt x="8037" y="12055"/>
                </a:cubicBezTo>
                <a:cubicBezTo>
                  <a:pt x="7972" y="12090"/>
                  <a:pt x="7888" y="12097"/>
                  <a:pt x="7813" y="12129"/>
                </a:cubicBezTo>
                <a:cubicBezTo>
                  <a:pt x="7709" y="12173"/>
                  <a:pt x="7538" y="12240"/>
                  <a:pt x="7466" y="12328"/>
                </a:cubicBezTo>
                <a:cubicBezTo>
                  <a:pt x="7438" y="12363"/>
                  <a:pt x="7425" y="12436"/>
                  <a:pt x="7417" y="12477"/>
                </a:cubicBezTo>
                <a:cubicBezTo>
                  <a:pt x="7413" y="12500"/>
                  <a:pt x="7423" y="12528"/>
                  <a:pt x="7417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3:52Z</dcterms:created>
  <dc:creator>jnewman</dc:creator>
  <dc:description/>
  <dc:language>en-US</dc:language>
  <cp:lastModifiedBy>abeason</cp:lastModifiedBy>
  <dcterms:modified xsi:type="dcterms:W3CDTF">2009-02-24T17:36:56Z</dcterms:modified>
  <cp:revision>7</cp:revision>
  <dc:subject/>
  <dc:title>Lesson 6.4 part one</dc:title>
</cp:coreProperties>
</file>